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wmf" ContentType="image/x-wmf"/>
  <Override PartName="/ppt/media/image7.jpeg" ContentType="image/jpeg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980238" cy="92122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80400" cy="9212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980400" cy="9212400"/>
          </a:xfrm>
          <a:custGeom>
            <a:avLst/>
            <a:gdLst>
              <a:gd name="textAreaLeft" fmla="*/ 360 w 6980400"/>
              <a:gd name="textAreaRight" fmla="*/ 6980040 w 6980400"/>
              <a:gd name="textAreaTop" fmla="*/ 360 h 9212400"/>
              <a:gd name="textAreaBottom" fmla="*/ 9212040 h 9212400"/>
            </a:gdLst>
            <a:ahLst/>
            <a:rect l="textAreaLeft" t="textAreaTop" r="textAreaRight" b="textAreaBottom"/>
            <a:pathLst>
              <a:path w="21600" h="28506">
                <a:moveTo>
                  <a:pt x="4" y="0"/>
                </a:moveTo>
                <a:arcTo wR="4" hR="4" stAng="16200000" swAng="-5400000"/>
                <a:lnTo>
                  <a:pt x="0" y="28502"/>
                </a:lnTo>
                <a:arcTo wR="4" hR="4" stAng="10800000" swAng="-5400000"/>
                <a:lnTo>
                  <a:pt x="21596" y="28506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22560" cy="458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956040" y="0"/>
            <a:ext cx="3022560" cy="458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86920" y="690480"/>
            <a:ext cx="4604040" cy="345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0078c7"/>
                </a:solidFill>
                <a:latin typeface="Verdana"/>
              </a:rPr>
              <a:t>Click to move the slide</a:t>
            </a: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29880" y="4375080"/>
            <a:ext cx="5118120" cy="41450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8748720"/>
            <a:ext cx="3022560" cy="458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956040" y="8748720"/>
            <a:ext cx="3022560" cy="458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7A805D7-3465-4BB7-9013-7F6FD52F990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3956040" y="8748720"/>
            <a:ext cx="3022560" cy="458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E6ADF19-A4B3-49A7-A1AB-2702D63EDAF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0" y="8748720"/>
            <a:ext cx="3022560" cy="458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0" y="0"/>
            <a:ext cx="3022560" cy="458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956040" y="0"/>
            <a:ext cx="3022560" cy="458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97000" y="696960"/>
            <a:ext cx="4587840" cy="344016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29880" y="4376520"/>
            <a:ext cx="5119560" cy="41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54444-D536-43F6-A917-21B2727CE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096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43585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C121E-D664-41D5-BA6B-26CB1AF9A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096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91440" y="22096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43585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91440" y="43585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E20AD-20A3-4563-9939-3345960C6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096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120" y="22096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64400" y="22096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43585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120" y="43585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64400" y="43585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B2C9F-D0AB-489F-A44C-35245F120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096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22096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EB9BA-A439-414B-BB03-6E183E556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096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ADDFA-518E-4390-B971-D0BA1264A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096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91440" y="22096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29E3E-FEDB-48C9-BDCB-DD1C72142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096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FBC5F-A2EA-4949-AB33-555DD9718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1143000"/>
            <a:ext cx="7770960" cy="387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1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A99D9-2E8A-4AEA-B643-D7690FAAE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096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1440" y="22096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43585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7C414-B07F-433C-9F03-9FFC994C8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096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91440" y="22096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91440" y="43585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95CC8-745A-4317-863E-22AFEC5B4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096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91440" y="22096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43585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7DFE9-EC07-4172-B54D-D546F7651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096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0078c7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22096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1000"/>
              </a:lnSpc>
              <a:spcBef>
                <a:spcPts val="499"/>
              </a:spcBef>
              <a:buClr>
                <a:srgbClr val="002b71"/>
              </a:buClr>
              <a:buFont typeface="Verdan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lvl="1" marL="741240" indent="-284040">
              <a:lnSpc>
                <a:spcPct val="101000"/>
              </a:lnSpc>
              <a:spcBef>
                <a:spcPts val="499"/>
              </a:spcBef>
              <a:buClr>
                <a:srgbClr val="002b71"/>
              </a:buClr>
              <a:buFont typeface="Verdana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lvl="2" marL="1143000" indent="-228600">
              <a:lnSpc>
                <a:spcPct val="101000"/>
              </a:lnSpc>
              <a:spcBef>
                <a:spcPts val="499"/>
              </a:spcBef>
              <a:buClr>
                <a:srgbClr val="002b71"/>
              </a:buClr>
              <a:buFont typeface="Verdan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lvl="3" marL="1600200" indent="-228600">
              <a:lnSpc>
                <a:spcPct val="101000"/>
              </a:lnSpc>
              <a:spcBef>
                <a:spcPts val="499"/>
              </a:spcBef>
              <a:buClr>
                <a:srgbClr val="002b71"/>
              </a:buClr>
              <a:buFont typeface="Verdana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lvl="4" marL="2057400" indent="-228600">
              <a:lnSpc>
                <a:spcPct val="101000"/>
              </a:lnSpc>
              <a:spcBef>
                <a:spcPts val="499"/>
              </a:spcBef>
              <a:buClr>
                <a:srgbClr val="002b71"/>
              </a:buClr>
              <a:buFont typeface="Verdana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lvl="5" marL="2057400" indent="-228600">
              <a:lnSpc>
                <a:spcPct val="101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lvl="6" marL="2057400" indent="-228600">
              <a:lnSpc>
                <a:spcPct val="101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4767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1" lang="en-GB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4767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1" lang="en-GB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457840" y="3429000"/>
            <a:ext cx="684360" cy="3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1" lang="en-GB" sz="9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57595DD-68E7-4456-A51E-B7422AC1B1D0}" type="slidenum">
              <a:rPr b="1" lang="en-GB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1280" y="1492200"/>
            <a:ext cx="3962520" cy="16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81280" y="1187280"/>
            <a:ext cx="502308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2b71"/>
                </a:solidFill>
                <a:latin typeface="Verdana"/>
              </a:rPr>
              <a:t>Pilot Projects for SafeSeaNet - V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Verdana"/>
              </a:rPr>
              <a:t>Paris 29-06-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158C4-DD16-4FD3-A4CD-9CD2C1186089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627280" y="2708280"/>
            <a:ext cx="4929120" cy="5214960"/>
          </a:xfrm>
          <a:prstGeom prst="ellipse">
            <a:avLst/>
          </a:prstGeom>
          <a:gradFill rotWithShape="0">
            <a:gsLst>
              <a:gs pos="0">
                <a:srgbClr val="fe5959"/>
              </a:gs>
              <a:gs pos="100000">
                <a:srgbClr val="ff5050">
                  <a:alpha val="5098"/>
                </a:srgbClr>
              </a:gs>
            </a:gsLst>
            <a:path path="rect">
              <a:fillToRect l="50000" t="50000" r="50000" b="50000"/>
            </a:path>
          </a:gra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638600" y="4984920"/>
            <a:ext cx="2259000" cy="1161720"/>
          </a:xfrm>
          <a:custGeom>
            <a:avLst/>
            <a:gdLst/>
            <a:ahLst/>
            <a:rect l="l" t="t" r="r" b="b"/>
            <a:pathLst>
              <a:path w="1423" h="732">
                <a:moveTo>
                  <a:pt x="0" y="148"/>
                </a:moveTo>
                <a:cubicBezTo>
                  <a:pt x="64" y="146"/>
                  <a:pt x="134" y="163"/>
                  <a:pt x="192" y="136"/>
                </a:cubicBezTo>
                <a:cubicBezTo>
                  <a:pt x="247" y="111"/>
                  <a:pt x="244" y="97"/>
                  <a:pt x="306" y="88"/>
                </a:cubicBezTo>
                <a:cubicBezTo>
                  <a:pt x="358" y="71"/>
                  <a:pt x="307" y="86"/>
                  <a:pt x="426" y="76"/>
                </a:cubicBezTo>
                <a:cubicBezTo>
                  <a:pt x="489" y="71"/>
                  <a:pt x="549" y="47"/>
                  <a:pt x="612" y="40"/>
                </a:cubicBezTo>
                <a:cubicBezTo>
                  <a:pt x="694" y="42"/>
                  <a:pt x="776" y="42"/>
                  <a:pt x="858" y="46"/>
                </a:cubicBezTo>
                <a:cubicBezTo>
                  <a:pt x="896" y="48"/>
                  <a:pt x="940" y="65"/>
                  <a:pt x="978" y="70"/>
                </a:cubicBezTo>
                <a:cubicBezTo>
                  <a:pt x="1054" y="108"/>
                  <a:pt x="1060" y="87"/>
                  <a:pt x="1188" y="82"/>
                </a:cubicBezTo>
                <a:cubicBezTo>
                  <a:pt x="1214" y="65"/>
                  <a:pt x="1228" y="52"/>
                  <a:pt x="1260" y="46"/>
                </a:cubicBezTo>
                <a:cubicBezTo>
                  <a:pt x="1314" y="10"/>
                  <a:pt x="1228" y="64"/>
                  <a:pt x="1314" y="28"/>
                </a:cubicBezTo>
                <a:cubicBezTo>
                  <a:pt x="1327" y="22"/>
                  <a:pt x="1350" y="4"/>
                  <a:pt x="1350" y="4"/>
                </a:cubicBezTo>
                <a:cubicBezTo>
                  <a:pt x="1367" y="10"/>
                  <a:pt x="1394" y="0"/>
                  <a:pt x="1404" y="16"/>
                </a:cubicBezTo>
                <a:cubicBezTo>
                  <a:pt x="1423" y="46"/>
                  <a:pt x="1370" y="93"/>
                  <a:pt x="1350" y="106"/>
                </a:cubicBezTo>
                <a:cubicBezTo>
                  <a:pt x="1319" y="152"/>
                  <a:pt x="1322" y="217"/>
                  <a:pt x="1272" y="250"/>
                </a:cubicBezTo>
                <a:cubicBezTo>
                  <a:pt x="1262" y="279"/>
                  <a:pt x="1249" y="299"/>
                  <a:pt x="1224" y="316"/>
                </a:cubicBezTo>
                <a:cubicBezTo>
                  <a:pt x="1205" y="344"/>
                  <a:pt x="1199" y="366"/>
                  <a:pt x="1182" y="394"/>
                </a:cubicBezTo>
                <a:cubicBezTo>
                  <a:pt x="1171" y="413"/>
                  <a:pt x="1141" y="444"/>
                  <a:pt x="1134" y="466"/>
                </a:cubicBezTo>
                <a:cubicBezTo>
                  <a:pt x="1132" y="472"/>
                  <a:pt x="1132" y="479"/>
                  <a:pt x="1128" y="484"/>
                </a:cubicBezTo>
                <a:cubicBezTo>
                  <a:pt x="1115" y="504"/>
                  <a:pt x="1095" y="525"/>
                  <a:pt x="1080" y="544"/>
                </a:cubicBezTo>
                <a:cubicBezTo>
                  <a:pt x="1069" y="577"/>
                  <a:pt x="1048" y="584"/>
                  <a:pt x="1020" y="598"/>
                </a:cubicBezTo>
                <a:cubicBezTo>
                  <a:pt x="988" y="614"/>
                  <a:pt x="959" y="628"/>
                  <a:pt x="924" y="640"/>
                </a:cubicBezTo>
                <a:cubicBezTo>
                  <a:pt x="917" y="642"/>
                  <a:pt x="913" y="650"/>
                  <a:pt x="906" y="652"/>
                </a:cubicBezTo>
                <a:cubicBezTo>
                  <a:pt x="867" y="664"/>
                  <a:pt x="825" y="663"/>
                  <a:pt x="786" y="676"/>
                </a:cubicBezTo>
                <a:cubicBezTo>
                  <a:pt x="759" y="696"/>
                  <a:pt x="730" y="711"/>
                  <a:pt x="702" y="730"/>
                </a:cubicBezTo>
                <a:cubicBezTo>
                  <a:pt x="584" y="723"/>
                  <a:pt x="633" y="732"/>
                  <a:pt x="552" y="712"/>
                </a:cubicBezTo>
                <a:cubicBezTo>
                  <a:pt x="532" y="707"/>
                  <a:pt x="492" y="694"/>
                  <a:pt x="492" y="694"/>
                </a:cubicBezTo>
                <a:cubicBezTo>
                  <a:pt x="488" y="688"/>
                  <a:pt x="486" y="681"/>
                  <a:pt x="480" y="676"/>
                </a:cubicBezTo>
                <a:cubicBezTo>
                  <a:pt x="475" y="672"/>
                  <a:pt x="466" y="674"/>
                  <a:pt x="462" y="670"/>
                </a:cubicBezTo>
                <a:cubicBezTo>
                  <a:pt x="430" y="638"/>
                  <a:pt x="486" y="662"/>
                  <a:pt x="438" y="646"/>
                </a:cubicBezTo>
                <a:cubicBezTo>
                  <a:pt x="407" y="599"/>
                  <a:pt x="370" y="558"/>
                  <a:pt x="336" y="514"/>
                </a:cubicBezTo>
                <a:cubicBezTo>
                  <a:pt x="286" y="449"/>
                  <a:pt x="335" y="501"/>
                  <a:pt x="294" y="460"/>
                </a:cubicBezTo>
                <a:cubicBezTo>
                  <a:pt x="279" y="415"/>
                  <a:pt x="301" y="469"/>
                  <a:pt x="270" y="430"/>
                </a:cubicBezTo>
                <a:cubicBezTo>
                  <a:pt x="245" y="399"/>
                  <a:pt x="300" y="416"/>
                  <a:pt x="240" y="376"/>
                </a:cubicBezTo>
                <a:cubicBezTo>
                  <a:pt x="201" y="350"/>
                  <a:pt x="178" y="313"/>
                  <a:pt x="132" y="298"/>
                </a:cubicBezTo>
                <a:cubicBezTo>
                  <a:pt x="116" y="274"/>
                  <a:pt x="90" y="254"/>
                  <a:pt x="66" y="238"/>
                </a:cubicBezTo>
                <a:cubicBezTo>
                  <a:pt x="54" y="220"/>
                  <a:pt x="48" y="196"/>
                  <a:pt x="30" y="184"/>
                </a:cubicBezTo>
                <a:cubicBezTo>
                  <a:pt x="5" y="167"/>
                  <a:pt x="15" y="178"/>
                  <a:pt x="0" y="148"/>
                </a:cubicBezTo>
                <a:close/>
              </a:path>
            </a:pathLst>
          </a:custGeom>
          <a:solidFill>
            <a:srgbClr val="996633"/>
          </a:solidFill>
          <a:ln w="9360">
            <a:solidFill>
              <a:srgbClr val="99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060640"/>
            <a:ext cx="4351320" cy="4351320"/>
          </a:xfrm>
          <a:prstGeom prst="ellipse">
            <a:avLst/>
          </a:prstGeom>
          <a:gradFill rotWithShape="0">
            <a:gsLst>
              <a:gs pos="0">
                <a:srgbClr val="fe5959"/>
              </a:gs>
              <a:gs pos="100000">
                <a:srgbClr val="ff5050">
                  <a:alpha val="5098"/>
                </a:srgbClr>
              </a:gs>
            </a:gsLst>
            <a:path path="rect">
              <a:fillToRect l="50000" t="50000" r="50000" b="50000"/>
            </a:path>
          </a:gra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0" y="1268280"/>
            <a:ext cx="9144000" cy="5589720"/>
            <a:chOff x="0" y="1268280"/>
            <a:chExt cx="9144000" cy="5589720"/>
          </a:xfrm>
        </p:grpSpPr>
        <p:sp>
          <p:nvSpPr>
            <p:cNvPr id="72" name=""/>
            <p:cNvSpPr/>
            <p:nvPr/>
          </p:nvSpPr>
          <p:spPr>
            <a:xfrm>
              <a:off x="34920" y="1268280"/>
              <a:ext cx="2143080" cy="4375440"/>
            </a:xfrm>
            <a:custGeom>
              <a:avLst/>
              <a:gdLst/>
              <a:ahLst/>
              <a:rect l="l" t="t" r="r" b="b"/>
              <a:pathLst>
                <a:path w="1350" h="2756">
                  <a:moveTo>
                    <a:pt x="23" y="54"/>
                  </a:moveTo>
                  <a:cubicBezTo>
                    <a:pt x="27" y="139"/>
                    <a:pt x="32" y="292"/>
                    <a:pt x="59" y="372"/>
                  </a:cubicBezTo>
                  <a:cubicBezTo>
                    <a:pt x="66" y="464"/>
                    <a:pt x="80" y="556"/>
                    <a:pt x="89" y="648"/>
                  </a:cubicBezTo>
                  <a:cubicBezTo>
                    <a:pt x="104" y="798"/>
                    <a:pt x="86" y="741"/>
                    <a:pt x="107" y="804"/>
                  </a:cubicBezTo>
                  <a:cubicBezTo>
                    <a:pt x="112" y="861"/>
                    <a:pt x="120" y="915"/>
                    <a:pt x="125" y="972"/>
                  </a:cubicBezTo>
                  <a:cubicBezTo>
                    <a:pt x="131" y="1186"/>
                    <a:pt x="175" y="1434"/>
                    <a:pt x="107" y="1638"/>
                  </a:cubicBezTo>
                  <a:cubicBezTo>
                    <a:pt x="94" y="1772"/>
                    <a:pt x="105" y="1723"/>
                    <a:pt x="89" y="1788"/>
                  </a:cubicBezTo>
                  <a:cubicBezTo>
                    <a:pt x="91" y="2082"/>
                    <a:pt x="0" y="2392"/>
                    <a:pt x="95" y="2670"/>
                  </a:cubicBezTo>
                  <a:cubicBezTo>
                    <a:pt x="124" y="2756"/>
                    <a:pt x="332" y="2683"/>
                    <a:pt x="425" y="2652"/>
                  </a:cubicBezTo>
                  <a:cubicBezTo>
                    <a:pt x="450" y="2644"/>
                    <a:pt x="503" y="2634"/>
                    <a:pt x="503" y="2634"/>
                  </a:cubicBezTo>
                  <a:cubicBezTo>
                    <a:pt x="529" y="2616"/>
                    <a:pt x="560" y="2618"/>
                    <a:pt x="587" y="2604"/>
                  </a:cubicBezTo>
                  <a:cubicBezTo>
                    <a:pt x="593" y="2601"/>
                    <a:pt x="598" y="2595"/>
                    <a:pt x="605" y="2592"/>
                  </a:cubicBezTo>
                  <a:cubicBezTo>
                    <a:pt x="632" y="2582"/>
                    <a:pt x="631" y="2591"/>
                    <a:pt x="653" y="2580"/>
                  </a:cubicBezTo>
                  <a:cubicBezTo>
                    <a:pt x="678" y="2568"/>
                    <a:pt x="700" y="2555"/>
                    <a:pt x="725" y="2544"/>
                  </a:cubicBezTo>
                  <a:cubicBezTo>
                    <a:pt x="758" y="2530"/>
                    <a:pt x="795" y="2524"/>
                    <a:pt x="827" y="2508"/>
                  </a:cubicBezTo>
                  <a:cubicBezTo>
                    <a:pt x="882" y="2481"/>
                    <a:pt x="936" y="2456"/>
                    <a:pt x="995" y="2436"/>
                  </a:cubicBezTo>
                  <a:cubicBezTo>
                    <a:pt x="1033" y="2398"/>
                    <a:pt x="1080" y="2368"/>
                    <a:pt x="1121" y="2334"/>
                  </a:cubicBezTo>
                  <a:cubicBezTo>
                    <a:pt x="1134" y="2323"/>
                    <a:pt x="1149" y="2314"/>
                    <a:pt x="1163" y="2304"/>
                  </a:cubicBezTo>
                  <a:cubicBezTo>
                    <a:pt x="1175" y="2296"/>
                    <a:pt x="1199" y="2280"/>
                    <a:pt x="1199" y="2280"/>
                  </a:cubicBezTo>
                  <a:cubicBezTo>
                    <a:pt x="1246" y="2209"/>
                    <a:pt x="1174" y="2194"/>
                    <a:pt x="1139" y="2142"/>
                  </a:cubicBezTo>
                  <a:cubicBezTo>
                    <a:pt x="1165" y="2065"/>
                    <a:pt x="1272" y="2068"/>
                    <a:pt x="1337" y="2064"/>
                  </a:cubicBezTo>
                  <a:cubicBezTo>
                    <a:pt x="1350" y="2024"/>
                    <a:pt x="1321" y="1984"/>
                    <a:pt x="1289" y="1962"/>
                  </a:cubicBezTo>
                  <a:cubicBezTo>
                    <a:pt x="1287" y="1956"/>
                    <a:pt x="1287" y="1948"/>
                    <a:pt x="1283" y="1944"/>
                  </a:cubicBezTo>
                  <a:cubicBezTo>
                    <a:pt x="1273" y="1934"/>
                    <a:pt x="1257" y="1930"/>
                    <a:pt x="1247" y="1920"/>
                  </a:cubicBezTo>
                  <a:cubicBezTo>
                    <a:pt x="1230" y="1903"/>
                    <a:pt x="1219" y="1886"/>
                    <a:pt x="1199" y="1872"/>
                  </a:cubicBezTo>
                  <a:cubicBezTo>
                    <a:pt x="1191" y="1860"/>
                    <a:pt x="1176" y="1854"/>
                    <a:pt x="1169" y="1842"/>
                  </a:cubicBezTo>
                  <a:cubicBezTo>
                    <a:pt x="1162" y="1831"/>
                    <a:pt x="1161" y="1818"/>
                    <a:pt x="1157" y="1806"/>
                  </a:cubicBezTo>
                  <a:cubicBezTo>
                    <a:pt x="1152" y="1791"/>
                    <a:pt x="1133" y="1784"/>
                    <a:pt x="1127" y="1770"/>
                  </a:cubicBezTo>
                  <a:cubicBezTo>
                    <a:pt x="1119" y="1753"/>
                    <a:pt x="1115" y="1734"/>
                    <a:pt x="1109" y="1716"/>
                  </a:cubicBezTo>
                  <a:cubicBezTo>
                    <a:pt x="1100" y="1689"/>
                    <a:pt x="1076" y="1666"/>
                    <a:pt x="1067" y="1638"/>
                  </a:cubicBezTo>
                  <a:cubicBezTo>
                    <a:pt x="1071" y="1566"/>
                    <a:pt x="1064" y="1503"/>
                    <a:pt x="1115" y="1452"/>
                  </a:cubicBezTo>
                  <a:cubicBezTo>
                    <a:pt x="1122" y="1418"/>
                    <a:pt x="1122" y="1393"/>
                    <a:pt x="1151" y="1374"/>
                  </a:cubicBezTo>
                  <a:cubicBezTo>
                    <a:pt x="1165" y="1353"/>
                    <a:pt x="1165" y="1340"/>
                    <a:pt x="1187" y="1326"/>
                  </a:cubicBezTo>
                  <a:cubicBezTo>
                    <a:pt x="1203" y="1277"/>
                    <a:pt x="1179" y="1354"/>
                    <a:pt x="1199" y="1254"/>
                  </a:cubicBezTo>
                  <a:cubicBezTo>
                    <a:pt x="1201" y="1242"/>
                    <a:pt x="1211" y="1218"/>
                    <a:pt x="1211" y="1218"/>
                  </a:cubicBezTo>
                  <a:cubicBezTo>
                    <a:pt x="1213" y="1190"/>
                    <a:pt x="1212" y="1162"/>
                    <a:pt x="1217" y="1134"/>
                  </a:cubicBezTo>
                  <a:cubicBezTo>
                    <a:pt x="1218" y="1127"/>
                    <a:pt x="1228" y="1123"/>
                    <a:pt x="1229" y="1116"/>
                  </a:cubicBezTo>
                  <a:cubicBezTo>
                    <a:pt x="1234" y="1072"/>
                    <a:pt x="1230" y="1028"/>
                    <a:pt x="1235" y="984"/>
                  </a:cubicBezTo>
                  <a:cubicBezTo>
                    <a:pt x="1239" y="949"/>
                    <a:pt x="1262" y="919"/>
                    <a:pt x="1277" y="888"/>
                  </a:cubicBezTo>
                  <a:cubicBezTo>
                    <a:pt x="1275" y="792"/>
                    <a:pt x="1276" y="696"/>
                    <a:pt x="1271" y="600"/>
                  </a:cubicBezTo>
                  <a:cubicBezTo>
                    <a:pt x="1267" y="532"/>
                    <a:pt x="1183" y="471"/>
                    <a:pt x="1133" y="438"/>
                  </a:cubicBezTo>
                  <a:cubicBezTo>
                    <a:pt x="1119" y="395"/>
                    <a:pt x="1092" y="350"/>
                    <a:pt x="1067" y="312"/>
                  </a:cubicBezTo>
                  <a:cubicBezTo>
                    <a:pt x="1082" y="267"/>
                    <a:pt x="1085" y="221"/>
                    <a:pt x="1073" y="174"/>
                  </a:cubicBezTo>
                  <a:cubicBezTo>
                    <a:pt x="1070" y="160"/>
                    <a:pt x="1054" y="152"/>
                    <a:pt x="1049" y="138"/>
                  </a:cubicBezTo>
                  <a:cubicBezTo>
                    <a:pt x="1038" y="105"/>
                    <a:pt x="1036" y="72"/>
                    <a:pt x="1001" y="60"/>
                  </a:cubicBezTo>
                  <a:cubicBezTo>
                    <a:pt x="967" y="8"/>
                    <a:pt x="1012" y="69"/>
                    <a:pt x="971" y="36"/>
                  </a:cubicBezTo>
                  <a:cubicBezTo>
                    <a:pt x="965" y="31"/>
                    <a:pt x="964" y="23"/>
                    <a:pt x="959" y="18"/>
                  </a:cubicBezTo>
                  <a:cubicBezTo>
                    <a:pt x="947" y="6"/>
                    <a:pt x="938" y="5"/>
                    <a:pt x="923" y="0"/>
                  </a:cubicBezTo>
                  <a:cubicBezTo>
                    <a:pt x="635" y="2"/>
                    <a:pt x="347" y="2"/>
                    <a:pt x="59" y="6"/>
                  </a:cubicBezTo>
                  <a:cubicBezTo>
                    <a:pt x="41" y="6"/>
                    <a:pt x="23" y="38"/>
                    <a:pt x="23" y="54"/>
                  </a:cubicBezTo>
                  <a:close/>
                </a:path>
              </a:pathLst>
            </a:custGeom>
            <a:solidFill>
              <a:srgbClr val="996633"/>
            </a:solidFill>
            <a:ln w="5724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6360" y="6141960"/>
              <a:ext cx="8712360" cy="716040"/>
            </a:xfrm>
            <a:prstGeom prst="rect">
              <a:avLst/>
            </a:prstGeom>
            <a:solidFill>
              <a:srgbClr val="996633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5659560"/>
              <a:ext cx="511200" cy="1198440"/>
            </a:xfrm>
            <a:prstGeom prst="rect">
              <a:avLst/>
            </a:prstGeom>
            <a:solidFill>
              <a:srgbClr val="996633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3600" rIns="936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8920" y="4375080"/>
              <a:ext cx="7453440" cy="2224080"/>
            </a:xfrm>
            <a:custGeom>
              <a:avLst/>
              <a:gdLst/>
              <a:ahLst/>
              <a:rect l="l" t="t" r="r" b="b"/>
              <a:pathLst>
                <a:path w="5190" h="1568">
                  <a:moveTo>
                    <a:pt x="45" y="35"/>
                  </a:moveTo>
                  <a:cubicBezTo>
                    <a:pt x="151" y="0"/>
                    <a:pt x="241" y="18"/>
                    <a:pt x="356" y="24"/>
                  </a:cubicBezTo>
                  <a:cubicBezTo>
                    <a:pt x="444" y="46"/>
                    <a:pt x="536" y="62"/>
                    <a:pt x="622" y="91"/>
                  </a:cubicBezTo>
                  <a:cubicBezTo>
                    <a:pt x="654" y="137"/>
                    <a:pt x="652" y="188"/>
                    <a:pt x="678" y="235"/>
                  </a:cubicBezTo>
                  <a:cubicBezTo>
                    <a:pt x="690" y="256"/>
                    <a:pt x="727" y="309"/>
                    <a:pt x="745" y="335"/>
                  </a:cubicBezTo>
                  <a:cubicBezTo>
                    <a:pt x="766" y="365"/>
                    <a:pt x="803" y="382"/>
                    <a:pt x="823" y="413"/>
                  </a:cubicBezTo>
                  <a:cubicBezTo>
                    <a:pt x="830" y="424"/>
                    <a:pt x="835" y="438"/>
                    <a:pt x="845" y="446"/>
                  </a:cubicBezTo>
                  <a:cubicBezTo>
                    <a:pt x="867" y="464"/>
                    <a:pt x="899" y="465"/>
                    <a:pt x="923" y="480"/>
                  </a:cubicBezTo>
                  <a:cubicBezTo>
                    <a:pt x="986" y="518"/>
                    <a:pt x="1042" y="568"/>
                    <a:pt x="1100" y="613"/>
                  </a:cubicBezTo>
                  <a:cubicBezTo>
                    <a:pt x="1108" y="620"/>
                    <a:pt x="1113" y="630"/>
                    <a:pt x="1123" y="635"/>
                  </a:cubicBezTo>
                  <a:cubicBezTo>
                    <a:pt x="1166" y="656"/>
                    <a:pt x="1221" y="663"/>
                    <a:pt x="1267" y="680"/>
                  </a:cubicBezTo>
                  <a:cubicBezTo>
                    <a:pt x="1344" y="757"/>
                    <a:pt x="1258" y="681"/>
                    <a:pt x="1334" y="724"/>
                  </a:cubicBezTo>
                  <a:cubicBezTo>
                    <a:pt x="1350" y="733"/>
                    <a:pt x="1362" y="749"/>
                    <a:pt x="1378" y="757"/>
                  </a:cubicBezTo>
                  <a:cubicBezTo>
                    <a:pt x="1399" y="767"/>
                    <a:pt x="1445" y="779"/>
                    <a:pt x="1445" y="779"/>
                  </a:cubicBezTo>
                  <a:cubicBezTo>
                    <a:pt x="1462" y="791"/>
                    <a:pt x="1487" y="813"/>
                    <a:pt x="1511" y="813"/>
                  </a:cubicBezTo>
                  <a:cubicBezTo>
                    <a:pt x="1583" y="813"/>
                    <a:pt x="1666" y="779"/>
                    <a:pt x="1734" y="757"/>
                  </a:cubicBezTo>
                  <a:cubicBezTo>
                    <a:pt x="1833" y="691"/>
                    <a:pt x="2001" y="632"/>
                    <a:pt x="2123" y="613"/>
                  </a:cubicBezTo>
                  <a:cubicBezTo>
                    <a:pt x="2385" y="572"/>
                    <a:pt x="2224" y="610"/>
                    <a:pt x="2345" y="580"/>
                  </a:cubicBezTo>
                  <a:cubicBezTo>
                    <a:pt x="2405" y="585"/>
                    <a:pt x="2476" y="566"/>
                    <a:pt x="2523" y="602"/>
                  </a:cubicBezTo>
                  <a:cubicBezTo>
                    <a:pt x="2587" y="651"/>
                    <a:pt x="2623" y="724"/>
                    <a:pt x="2678" y="779"/>
                  </a:cubicBezTo>
                  <a:cubicBezTo>
                    <a:pt x="2701" y="802"/>
                    <a:pt x="2733" y="812"/>
                    <a:pt x="2756" y="835"/>
                  </a:cubicBezTo>
                  <a:cubicBezTo>
                    <a:pt x="2769" y="848"/>
                    <a:pt x="2776" y="866"/>
                    <a:pt x="2789" y="879"/>
                  </a:cubicBezTo>
                  <a:cubicBezTo>
                    <a:pt x="2831" y="921"/>
                    <a:pt x="2881" y="958"/>
                    <a:pt x="2923" y="1002"/>
                  </a:cubicBezTo>
                  <a:cubicBezTo>
                    <a:pt x="2947" y="1027"/>
                    <a:pt x="3046" y="1092"/>
                    <a:pt x="3089" y="1102"/>
                  </a:cubicBezTo>
                  <a:cubicBezTo>
                    <a:pt x="3126" y="1110"/>
                    <a:pt x="3201" y="1124"/>
                    <a:pt x="3201" y="1124"/>
                  </a:cubicBezTo>
                  <a:cubicBezTo>
                    <a:pt x="3265" y="1115"/>
                    <a:pt x="3307" y="1095"/>
                    <a:pt x="3367" y="1079"/>
                  </a:cubicBezTo>
                  <a:cubicBezTo>
                    <a:pt x="3408" y="1039"/>
                    <a:pt x="3465" y="1024"/>
                    <a:pt x="3501" y="979"/>
                  </a:cubicBezTo>
                  <a:cubicBezTo>
                    <a:pt x="3552" y="916"/>
                    <a:pt x="3577" y="802"/>
                    <a:pt x="3634" y="746"/>
                  </a:cubicBezTo>
                  <a:cubicBezTo>
                    <a:pt x="3653" y="728"/>
                    <a:pt x="3671" y="709"/>
                    <a:pt x="3690" y="691"/>
                  </a:cubicBezTo>
                  <a:cubicBezTo>
                    <a:pt x="3724" y="658"/>
                    <a:pt x="3716" y="622"/>
                    <a:pt x="3756" y="591"/>
                  </a:cubicBezTo>
                  <a:cubicBezTo>
                    <a:pt x="3777" y="574"/>
                    <a:pt x="3823" y="546"/>
                    <a:pt x="3823" y="546"/>
                  </a:cubicBezTo>
                  <a:cubicBezTo>
                    <a:pt x="3836" y="521"/>
                    <a:pt x="3840" y="491"/>
                    <a:pt x="3856" y="468"/>
                  </a:cubicBezTo>
                  <a:cubicBezTo>
                    <a:pt x="3900" y="403"/>
                    <a:pt x="3987" y="387"/>
                    <a:pt x="4056" y="368"/>
                  </a:cubicBezTo>
                  <a:cubicBezTo>
                    <a:pt x="4097" y="372"/>
                    <a:pt x="4138" y="371"/>
                    <a:pt x="4178" y="380"/>
                  </a:cubicBezTo>
                  <a:cubicBezTo>
                    <a:pt x="4221" y="389"/>
                    <a:pt x="4249" y="442"/>
                    <a:pt x="4312" y="457"/>
                  </a:cubicBezTo>
                  <a:cubicBezTo>
                    <a:pt x="4354" y="501"/>
                    <a:pt x="4372" y="490"/>
                    <a:pt x="4434" y="480"/>
                  </a:cubicBezTo>
                  <a:cubicBezTo>
                    <a:pt x="4520" y="420"/>
                    <a:pt x="4416" y="488"/>
                    <a:pt x="4501" y="446"/>
                  </a:cubicBezTo>
                  <a:cubicBezTo>
                    <a:pt x="4586" y="404"/>
                    <a:pt x="4479" y="447"/>
                    <a:pt x="4567" y="391"/>
                  </a:cubicBezTo>
                  <a:cubicBezTo>
                    <a:pt x="4584" y="380"/>
                    <a:pt x="4604" y="376"/>
                    <a:pt x="4623" y="368"/>
                  </a:cubicBezTo>
                  <a:cubicBezTo>
                    <a:pt x="4702" y="289"/>
                    <a:pt x="4793" y="250"/>
                    <a:pt x="4901" y="224"/>
                  </a:cubicBezTo>
                  <a:cubicBezTo>
                    <a:pt x="4938" y="228"/>
                    <a:pt x="4975" y="228"/>
                    <a:pt x="5012" y="235"/>
                  </a:cubicBezTo>
                  <a:cubicBezTo>
                    <a:pt x="5035" y="239"/>
                    <a:pt x="5079" y="257"/>
                    <a:pt x="5079" y="257"/>
                  </a:cubicBezTo>
                  <a:cubicBezTo>
                    <a:pt x="5105" y="284"/>
                    <a:pt x="5145" y="346"/>
                    <a:pt x="5145" y="346"/>
                  </a:cubicBezTo>
                  <a:cubicBezTo>
                    <a:pt x="5166" y="432"/>
                    <a:pt x="5180" y="514"/>
                    <a:pt x="5190" y="602"/>
                  </a:cubicBezTo>
                  <a:cubicBezTo>
                    <a:pt x="5184" y="711"/>
                    <a:pt x="5189" y="869"/>
                    <a:pt x="5123" y="968"/>
                  </a:cubicBezTo>
                  <a:cubicBezTo>
                    <a:pt x="5100" y="1038"/>
                    <a:pt x="5086" y="1107"/>
                    <a:pt x="5067" y="1179"/>
                  </a:cubicBezTo>
                  <a:cubicBezTo>
                    <a:pt x="5055" y="1226"/>
                    <a:pt x="5001" y="1237"/>
                    <a:pt x="4967" y="1257"/>
                  </a:cubicBezTo>
                  <a:cubicBezTo>
                    <a:pt x="4944" y="1271"/>
                    <a:pt x="4924" y="1289"/>
                    <a:pt x="4901" y="1302"/>
                  </a:cubicBezTo>
                  <a:cubicBezTo>
                    <a:pt x="4891" y="1308"/>
                    <a:pt x="4878" y="1309"/>
                    <a:pt x="4867" y="1313"/>
                  </a:cubicBezTo>
                  <a:cubicBezTo>
                    <a:pt x="4827" y="1340"/>
                    <a:pt x="4792" y="1356"/>
                    <a:pt x="4745" y="1368"/>
                  </a:cubicBezTo>
                  <a:cubicBezTo>
                    <a:pt x="4652" y="1417"/>
                    <a:pt x="4548" y="1431"/>
                    <a:pt x="4445" y="1446"/>
                  </a:cubicBezTo>
                  <a:cubicBezTo>
                    <a:pt x="4284" y="1500"/>
                    <a:pt x="4092" y="1512"/>
                    <a:pt x="3923" y="1524"/>
                  </a:cubicBezTo>
                  <a:cubicBezTo>
                    <a:pt x="3770" y="1549"/>
                    <a:pt x="3622" y="1560"/>
                    <a:pt x="3467" y="1568"/>
                  </a:cubicBezTo>
                  <a:cubicBezTo>
                    <a:pt x="3013" y="1561"/>
                    <a:pt x="2564" y="1550"/>
                    <a:pt x="2112" y="1513"/>
                  </a:cubicBezTo>
                  <a:cubicBezTo>
                    <a:pt x="1983" y="1488"/>
                    <a:pt x="1885" y="1475"/>
                    <a:pt x="1745" y="1468"/>
                  </a:cubicBezTo>
                  <a:cubicBezTo>
                    <a:pt x="1700" y="1472"/>
                    <a:pt x="1655" y="1474"/>
                    <a:pt x="1611" y="1479"/>
                  </a:cubicBezTo>
                  <a:cubicBezTo>
                    <a:pt x="1592" y="1481"/>
                    <a:pt x="1575" y="1494"/>
                    <a:pt x="1556" y="1491"/>
                  </a:cubicBezTo>
                  <a:cubicBezTo>
                    <a:pt x="1515" y="1485"/>
                    <a:pt x="1537" y="1417"/>
                    <a:pt x="1445" y="1413"/>
                  </a:cubicBezTo>
                  <a:cubicBezTo>
                    <a:pt x="1238" y="1403"/>
                    <a:pt x="1030" y="1406"/>
                    <a:pt x="823" y="1402"/>
                  </a:cubicBezTo>
                  <a:cubicBezTo>
                    <a:pt x="747" y="1409"/>
                    <a:pt x="682" y="1412"/>
                    <a:pt x="611" y="1435"/>
                  </a:cubicBezTo>
                  <a:cubicBezTo>
                    <a:pt x="538" y="1411"/>
                    <a:pt x="463" y="1393"/>
                    <a:pt x="389" y="1368"/>
                  </a:cubicBezTo>
                  <a:cubicBezTo>
                    <a:pt x="364" y="1360"/>
                    <a:pt x="347" y="1334"/>
                    <a:pt x="322" y="1324"/>
                  </a:cubicBezTo>
                  <a:cubicBezTo>
                    <a:pt x="269" y="1303"/>
                    <a:pt x="233" y="1271"/>
                    <a:pt x="178" y="1257"/>
                  </a:cubicBezTo>
                  <a:cubicBezTo>
                    <a:pt x="150" y="1229"/>
                    <a:pt x="115" y="1208"/>
                    <a:pt x="89" y="1179"/>
                  </a:cubicBezTo>
                  <a:cubicBezTo>
                    <a:pt x="71" y="1159"/>
                    <a:pt x="45" y="1113"/>
                    <a:pt x="45" y="1113"/>
                  </a:cubicBezTo>
                  <a:cubicBezTo>
                    <a:pt x="32" y="1073"/>
                    <a:pt x="11" y="991"/>
                    <a:pt x="11" y="991"/>
                  </a:cubicBezTo>
                  <a:cubicBezTo>
                    <a:pt x="7" y="950"/>
                    <a:pt x="0" y="909"/>
                    <a:pt x="0" y="868"/>
                  </a:cubicBezTo>
                  <a:cubicBezTo>
                    <a:pt x="0" y="757"/>
                    <a:pt x="53" y="588"/>
                    <a:pt x="89" y="480"/>
                  </a:cubicBezTo>
                  <a:cubicBezTo>
                    <a:pt x="82" y="324"/>
                    <a:pt x="88" y="252"/>
                    <a:pt x="45" y="124"/>
                  </a:cubicBezTo>
                  <a:cubicBezTo>
                    <a:pt x="60" y="65"/>
                    <a:pt x="60" y="95"/>
                    <a:pt x="45" y="35"/>
                  </a:cubicBezTo>
                  <a:close/>
                </a:path>
              </a:pathLst>
            </a:custGeom>
            <a:solidFill>
              <a:srgbClr val="996633"/>
            </a:solidFill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48680" y="5052960"/>
              <a:ext cx="1344600" cy="1703520"/>
            </a:xfrm>
            <a:prstGeom prst="rect">
              <a:avLst/>
            </a:prstGeom>
            <a:solidFill>
              <a:srgbClr val="996633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561520" y="4848120"/>
              <a:ext cx="582480" cy="2009880"/>
            </a:xfrm>
            <a:prstGeom prst="rect">
              <a:avLst/>
            </a:prstGeom>
            <a:solidFill>
              <a:srgbClr val="996633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3600" rIns="936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0" y="4438800"/>
              <a:ext cx="1968480" cy="2133360"/>
            </a:xfrm>
            <a:custGeom>
              <a:avLst/>
              <a:gdLst/>
              <a:ahLst/>
              <a:rect l="l" t="t" r="r" b="b"/>
              <a:pathLst>
                <a:path w="1288" h="1344">
                  <a:moveTo>
                    <a:pt x="828" y="0"/>
                  </a:moveTo>
                  <a:cubicBezTo>
                    <a:pt x="804" y="8"/>
                    <a:pt x="770" y="3"/>
                    <a:pt x="756" y="24"/>
                  </a:cubicBezTo>
                  <a:cubicBezTo>
                    <a:pt x="748" y="36"/>
                    <a:pt x="744" y="52"/>
                    <a:pt x="732" y="60"/>
                  </a:cubicBezTo>
                  <a:cubicBezTo>
                    <a:pt x="711" y="73"/>
                    <a:pt x="684" y="76"/>
                    <a:pt x="660" y="84"/>
                  </a:cubicBezTo>
                  <a:cubicBezTo>
                    <a:pt x="631" y="94"/>
                    <a:pt x="603" y="105"/>
                    <a:pt x="576" y="120"/>
                  </a:cubicBezTo>
                  <a:cubicBezTo>
                    <a:pt x="551" y="134"/>
                    <a:pt x="531" y="159"/>
                    <a:pt x="504" y="168"/>
                  </a:cubicBezTo>
                  <a:cubicBezTo>
                    <a:pt x="434" y="191"/>
                    <a:pt x="412" y="200"/>
                    <a:pt x="360" y="252"/>
                  </a:cubicBezTo>
                  <a:cubicBezTo>
                    <a:pt x="341" y="309"/>
                    <a:pt x="314" y="303"/>
                    <a:pt x="276" y="348"/>
                  </a:cubicBezTo>
                  <a:cubicBezTo>
                    <a:pt x="235" y="397"/>
                    <a:pt x="223" y="472"/>
                    <a:pt x="192" y="528"/>
                  </a:cubicBezTo>
                  <a:cubicBezTo>
                    <a:pt x="178" y="553"/>
                    <a:pt x="160" y="576"/>
                    <a:pt x="144" y="600"/>
                  </a:cubicBezTo>
                  <a:cubicBezTo>
                    <a:pt x="136" y="612"/>
                    <a:pt x="134" y="631"/>
                    <a:pt x="120" y="636"/>
                  </a:cubicBezTo>
                  <a:cubicBezTo>
                    <a:pt x="96" y="644"/>
                    <a:pt x="48" y="660"/>
                    <a:pt x="48" y="660"/>
                  </a:cubicBezTo>
                  <a:cubicBezTo>
                    <a:pt x="18" y="751"/>
                    <a:pt x="16" y="853"/>
                    <a:pt x="0" y="948"/>
                  </a:cubicBezTo>
                  <a:cubicBezTo>
                    <a:pt x="4" y="972"/>
                    <a:pt x="3" y="998"/>
                    <a:pt x="12" y="1020"/>
                  </a:cubicBezTo>
                  <a:cubicBezTo>
                    <a:pt x="55" y="1123"/>
                    <a:pt x="100" y="1116"/>
                    <a:pt x="156" y="1188"/>
                  </a:cubicBezTo>
                  <a:cubicBezTo>
                    <a:pt x="220" y="1270"/>
                    <a:pt x="172" y="1255"/>
                    <a:pt x="252" y="1272"/>
                  </a:cubicBezTo>
                  <a:cubicBezTo>
                    <a:pt x="252" y="1272"/>
                    <a:pt x="402" y="1302"/>
                    <a:pt x="432" y="1308"/>
                  </a:cubicBezTo>
                  <a:cubicBezTo>
                    <a:pt x="448" y="1311"/>
                    <a:pt x="464" y="1315"/>
                    <a:pt x="480" y="1320"/>
                  </a:cubicBezTo>
                  <a:cubicBezTo>
                    <a:pt x="504" y="1327"/>
                    <a:pt x="552" y="1344"/>
                    <a:pt x="552" y="1344"/>
                  </a:cubicBezTo>
                  <a:cubicBezTo>
                    <a:pt x="588" y="1335"/>
                    <a:pt x="625" y="1332"/>
                    <a:pt x="660" y="1320"/>
                  </a:cubicBezTo>
                  <a:cubicBezTo>
                    <a:pt x="677" y="1314"/>
                    <a:pt x="691" y="1301"/>
                    <a:pt x="708" y="1296"/>
                  </a:cubicBezTo>
                  <a:cubicBezTo>
                    <a:pt x="747" y="1285"/>
                    <a:pt x="828" y="1272"/>
                    <a:pt x="828" y="1272"/>
                  </a:cubicBezTo>
                  <a:cubicBezTo>
                    <a:pt x="844" y="1264"/>
                    <a:pt x="859" y="1255"/>
                    <a:pt x="876" y="1248"/>
                  </a:cubicBezTo>
                  <a:cubicBezTo>
                    <a:pt x="899" y="1239"/>
                    <a:pt x="948" y="1224"/>
                    <a:pt x="948" y="1224"/>
                  </a:cubicBezTo>
                  <a:cubicBezTo>
                    <a:pt x="1069" y="1237"/>
                    <a:pt x="1062" y="1230"/>
                    <a:pt x="1140" y="1308"/>
                  </a:cubicBezTo>
                  <a:cubicBezTo>
                    <a:pt x="1190" y="1258"/>
                    <a:pt x="1186" y="1272"/>
                    <a:pt x="1212" y="1212"/>
                  </a:cubicBezTo>
                  <a:cubicBezTo>
                    <a:pt x="1229" y="1172"/>
                    <a:pt x="1260" y="1092"/>
                    <a:pt x="1260" y="1092"/>
                  </a:cubicBezTo>
                  <a:cubicBezTo>
                    <a:pt x="1288" y="925"/>
                    <a:pt x="1277" y="1027"/>
                    <a:pt x="1248" y="720"/>
                  </a:cubicBezTo>
                  <a:cubicBezTo>
                    <a:pt x="1235" y="586"/>
                    <a:pt x="1174" y="476"/>
                    <a:pt x="1116" y="360"/>
                  </a:cubicBezTo>
                  <a:cubicBezTo>
                    <a:pt x="1058" y="244"/>
                    <a:pt x="1009" y="106"/>
                    <a:pt x="900" y="24"/>
                  </a:cubicBezTo>
                  <a:cubicBezTo>
                    <a:pt x="880" y="9"/>
                    <a:pt x="852" y="8"/>
                    <a:pt x="828" y="0"/>
                  </a:cubicBezTo>
                  <a:close/>
                </a:path>
              </a:pathLst>
            </a:custGeom>
            <a:solidFill>
              <a:srgbClr val="996633"/>
            </a:solidFill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3600" rIns="936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" name=""/>
          <p:cNvSpPr/>
          <p:nvPr/>
        </p:nvSpPr>
        <p:spPr>
          <a:xfrm>
            <a:off x="0" y="1341360"/>
            <a:ext cx="754200" cy="439272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4140360" y="4508640"/>
            <a:ext cx="1690560" cy="1280880"/>
            <a:chOff x="4140360" y="4508640"/>
            <a:chExt cx="1690560" cy="1280880"/>
          </a:xfrm>
        </p:grpSpPr>
        <p:sp>
          <p:nvSpPr>
            <p:cNvPr id="81" name=""/>
            <p:cNvSpPr/>
            <p:nvPr/>
          </p:nvSpPr>
          <p:spPr>
            <a:xfrm>
              <a:off x="4140360" y="5516640"/>
              <a:ext cx="1690560" cy="27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343080" indent="-343080">
                <a:lnSpc>
                  <a:spcPct val="101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2b71"/>
                  </a:solidFill>
                  <a:latin typeface="Verdana"/>
                </a:rPr>
                <a:t>Basestation 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356000" y="4508640"/>
              <a:ext cx="803520" cy="1078920"/>
              <a:chOff x="4356000" y="4508640"/>
              <a:chExt cx="803520" cy="1078920"/>
            </a:xfrm>
          </p:grpSpPr>
          <p:grpSp>
            <p:nvGrpSpPr>
              <p:cNvPr id="83" name=""/>
              <p:cNvGrpSpPr/>
              <p:nvPr/>
            </p:nvGrpSpPr>
            <p:grpSpPr>
              <a:xfrm>
                <a:off x="4930920" y="4508640"/>
                <a:ext cx="228600" cy="818640"/>
                <a:chOff x="4930920" y="4508640"/>
                <a:chExt cx="228600" cy="818640"/>
              </a:xfrm>
            </p:grpSpPr>
            <p:sp>
              <p:nvSpPr>
                <p:cNvPr id="84" name=""/>
                <p:cNvSpPr/>
                <p:nvPr/>
              </p:nvSpPr>
              <p:spPr>
                <a:xfrm>
                  <a:off x="5016600" y="4670280"/>
                  <a:ext cx="47880" cy="66240"/>
                </a:xfrm>
                <a:custGeom>
                  <a:avLst/>
                  <a:gdLst/>
                  <a:ahLst/>
                  <a:rect l="l" t="t" r="r" b="b"/>
                  <a:pathLst>
                    <a:path w="30" h="42">
                      <a:moveTo>
                        <a:pt x="6" y="6"/>
                      </a:moveTo>
                      <a:lnTo>
                        <a:pt x="18" y="0"/>
                      </a:lnTo>
                      <a:lnTo>
                        <a:pt x="24" y="6"/>
                      </a:lnTo>
                      <a:lnTo>
                        <a:pt x="30" y="36"/>
                      </a:lnTo>
                      <a:lnTo>
                        <a:pt x="18" y="42"/>
                      </a:lnTo>
                      <a:lnTo>
                        <a:pt x="0" y="36"/>
                      </a:lnTo>
                      <a:lnTo>
                        <a:pt x="6" y="6"/>
                      </a:lnTo>
                      <a:close/>
                    </a:path>
                  </a:pathLst>
                </a:custGeom>
                <a:solidFill>
                  <a:srgbClr val="b5b5b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440" bIns="19440" anchor="t">
                  <a:noAutofit/>
                </a:bodyPr>
                <a:p>
                  <a:pPr>
                    <a:lnSpc>
                      <a:spcPct val="95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>
                  <a:off x="4930920" y="5213160"/>
                  <a:ext cx="228600" cy="56880"/>
                </a:xfrm>
                <a:custGeom>
                  <a:avLst/>
                  <a:gdLst/>
                  <a:ahLst/>
                  <a:rect l="l" t="t" r="r" b="b"/>
                  <a:pathLst>
                    <a:path w="144" h="36">
                      <a:moveTo>
                        <a:pt x="0" y="36"/>
                      </a:moveTo>
                      <a:lnTo>
                        <a:pt x="72" y="0"/>
                      </a:lnTo>
                      <a:lnTo>
                        <a:pt x="144" y="36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pPr>
                    <a:lnSpc>
                      <a:spcPct val="95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>
                  <a:off x="4930920" y="4641840"/>
                  <a:ext cx="228600" cy="685440"/>
                </a:xfrm>
                <a:custGeom>
                  <a:avLst/>
                  <a:gdLst/>
                  <a:ahLst/>
                  <a:rect l="l" t="t" r="r" b="b"/>
                  <a:pathLst>
                    <a:path w="144" h="432">
                      <a:moveTo>
                        <a:pt x="72" y="0"/>
                      </a:moveTo>
                      <a:lnTo>
                        <a:pt x="72" y="432"/>
                      </a:lnTo>
                      <a:lnTo>
                        <a:pt x="0" y="396"/>
                      </a:lnTo>
                      <a:lnTo>
                        <a:pt x="72" y="0"/>
                      </a:lnTo>
                      <a:lnTo>
                        <a:pt x="144" y="396"/>
                      </a:lnTo>
                      <a:lnTo>
                        <a:pt x="72" y="432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5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>
                  <a:off x="5016600" y="4794120"/>
                  <a:ext cx="57240" cy="18720"/>
                </a:xfrm>
                <a:custGeom>
                  <a:avLst/>
                  <a:gdLst/>
                  <a:ahLst/>
                  <a:rect l="l" t="t" r="r" b="b"/>
                  <a:pathLst>
                    <a:path w="36" h="12">
                      <a:moveTo>
                        <a:pt x="0" y="0"/>
                      </a:moveTo>
                      <a:lnTo>
                        <a:pt x="18" y="12"/>
                      </a:lnTo>
                      <a:lnTo>
                        <a:pt x="36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pPr>
                    <a:lnSpc>
                      <a:spcPct val="95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>
                  <a:off x="5007240" y="4851360"/>
                  <a:ext cx="76320" cy="18720"/>
                </a:xfrm>
                <a:custGeom>
                  <a:avLst/>
                  <a:gdLst/>
                  <a:ahLst/>
                  <a:rect l="l" t="t" r="r" b="b"/>
                  <a:pathLst>
                    <a:path w="48" h="12">
                      <a:moveTo>
                        <a:pt x="0" y="0"/>
                      </a:moveTo>
                      <a:lnTo>
                        <a:pt x="24" y="12"/>
                      </a:lnTo>
                      <a:lnTo>
                        <a:pt x="48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pPr>
                    <a:lnSpc>
                      <a:spcPct val="95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>
                  <a:off x="4997520" y="4898880"/>
                  <a:ext cx="95400" cy="28080"/>
                </a:xfrm>
                <a:custGeom>
                  <a:avLst/>
                  <a:gdLst/>
                  <a:ahLst/>
                  <a:rect l="l" t="t" r="r" b="b"/>
                  <a:pathLst>
                    <a:path w="60" h="18">
                      <a:moveTo>
                        <a:pt x="0" y="0"/>
                      </a:moveTo>
                      <a:lnTo>
                        <a:pt x="30" y="18"/>
                      </a:lnTo>
                      <a:lnTo>
                        <a:pt x="60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pPr>
                    <a:lnSpc>
                      <a:spcPct val="95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>
                  <a:off x="4988160" y="4956120"/>
                  <a:ext cx="114120" cy="28080"/>
                </a:xfrm>
                <a:custGeom>
                  <a:avLst/>
                  <a:gdLst/>
                  <a:ahLst/>
                  <a:rect l="l" t="t" r="r" b="b"/>
                  <a:pathLst>
                    <a:path w="72" h="18">
                      <a:moveTo>
                        <a:pt x="0" y="0"/>
                      </a:moveTo>
                      <a:lnTo>
                        <a:pt x="36" y="18"/>
                      </a:lnTo>
                      <a:lnTo>
                        <a:pt x="72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pPr>
                    <a:lnSpc>
                      <a:spcPct val="95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4978440" y="5003640"/>
                  <a:ext cx="133560" cy="37800"/>
                </a:xfrm>
                <a:custGeom>
                  <a:avLst/>
                  <a:gdLst/>
                  <a:ahLst/>
                  <a:rect l="l" t="t" r="r" b="b"/>
                  <a:pathLst>
                    <a:path w="84" h="24">
                      <a:moveTo>
                        <a:pt x="0" y="0"/>
                      </a:moveTo>
                      <a:lnTo>
                        <a:pt x="42" y="24"/>
                      </a:lnTo>
                      <a:lnTo>
                        <a:pt x="84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pPr>
                    <a:lnSpc>
                      <a:spcPct val="95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>
                  <a:off x="4969080" y="5060880"/>
                  <a:ext cx="152280" cy="37800"/>
                </a:xfrm>
                <a:custGeom>
                  <a:avLst/>
                  <a:gdLst/>
                  <a:ahLst/>
                  <a:rect l="l" t="t" r="r" b="b"/>
                  <a:pathLst>
                    <a:path w="96" h="24">
                      <a:moveTo>
                        <a:pt x="0" y="0"/>
                      </a:moveTo>
                      <a:lnTo>
                        <a:pt x="48" y="24"/>
                      </a:lnTo>
                      <a:lnTo>
                        <a:pt x="96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pPr>
                    <a:lnSpc>
                      <a:spcPct val="95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>
                  <a:off x="4959720" y="5108400"/>
                  <a:ext cx="171360" cy="47160"/>
                </a:xfrm>
                <a:custGeom>
                  <a:avLst/>
                  <a:gdLst/>
                  <a:ahLst/>
                  <a:rect l="l" t="t" r="r" b="b"/>
                  <a:pathLst>
                    <a:path w="108" h="30">
                      <a:moveTo>
                        <a:pt x="0" y="0"/>
                      </a:moveTo>
                      <a:lnTo>
                        <a:pt x="54" y="30"/>
                      </a:lnTo>
                      <a:lnTo>
                        <a:pt x="108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t">
                  <a:noAutofit/>
                </a:bodyPr>
                <a:p>
                  <a:pPr>
                    <a:lnSpc>
                      <a:spcPct val="95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4950000" y="5165640"/>
                  <a:ext cx="190440" cy="47160"/>
                </a:xfrm>
                <a:custGeom>
                  <a:avLst/>
                  <a:gdLst/>
                  <a:ahLst/>
                  <a:rect l="l" t="t" r="r" b="b"/>
                  <a:pathLst>
                    <a:path w="120" h="30">
                      <a:moveTo>
                        <a:pt x="0" y="0"/>
                      </a:moveTo>
                      <a:lnTo>
                        <a:pt x="60" y="30"/>
                      </a:lnTo>
                      <a:lnTo>
                        <a:pt x="120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t">
                  <a:noAutofit/>
                </a:bodyPr>
                <a:p>
                  <a:pPr>
                    <a:lnSpc>
                      <a:spcPct val="95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>
                  <a:off x="4940640" y="5213160"/>
                  <a:ext cx="209520" cy="56880"/>
                </a:xfrm>
                <a:custGeom>
                  <a:avLst/>
                  <a:gdLst/>
                  <a:ahLst/>
                  <a:rect l="l" t="t" r="r" b="b"/>
                  <a:pathLst>
                    <a:path w="132" h="36">
                      <a:moveTo>
                        <a:pt x="0" y="0"/>
                      </a:moveTo>
                      <a:lnTo>
                        <a:pt x="66" y="36"/>
                      </a:lnTo>
                      <a:lnTo>
                        <a:pt x="132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pPr>
                    <a:lnSpc>
                      <a:spcPct val="95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" name=""/>
                <p:cNvSpPr/>
                <p:nvPr/>
              </p:nvSpPr>
              <p:spPr>
                <a:xfrm>
                  <a:off x="5016600" y="4670280"/>
                  <a:ext cx="47880" cy="66240"/>
                </a:xfrm>
                <a:custGeom>
                  <a:avLst/>
                  <a:gdLst/>
                  <a:ahLst/>
                  <a:rect l="l" t="t" r="r" b="b"/>
                  <a:pathLst>
                    <a:path w="30" h="42">
                      <a:moveTo>
                        <a:pt x="6" y="6"/>
                      </a:moveTo>
                      <a:lnTo>
                        <a:pt x="18" y="0"/>
                      </a:lnTo>
                      <a:lnTo>
                        <a:pt x="24" y="6"/>
                      </a:lnTo>
                      <a:lnTo>
                        <a:pt x="30" y="36"/>
                      </a:lnTo>
                      <a:lnTo>
                        <a:pt x="18" y="42"/>
                      </a:lnTo>
                      <a:lnTo>
                        <a:pt x="0" y="36"/>
                      </a:lnTo>
                      <a:lnTo>
                        <a:pt x="6" y="6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440" bIns="19440" anchor="t">
                  <a:noAutofit/>
                </a:bodyPr>
                <a:p>
                  <a:pPr>
                    <a:lnSpc>
                      <a:spcPct val="95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>
                  <a:off x="4930920" y="4613040"/>
                  <a:ext cx="85680" cy="28440"/>
                </a:xfrm>
                <a:custGeom>
                  <a:avLst/>
                  <a:gdLst/>
                  <a:ahLst/>
                  <a:rect l="l" t="t" r="r" b="b"/>
                  <a:pathLst>
                    <a:path w="54" h="18">
                      <a:moveTo>
                        <a:pt x="54" y="18"/>
                      </a:moveTo>
                      <a:lnTo>
                        <a:pt x="18" y="12"/>
                      </a:lnTo>
                      <a:lnTo>
                        <a:pt x="36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pPr>
                    <a:lnSpc>
                      <a:spcPct val="95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>
                  <a:off x="5054760" y="4613040"/>
                  <a:ext cx="104760" cy="28440"/>
                </a:xfrm>
                <a:custGeom>
                  <a:avLst/>
                  <a:gdLst/>
                  <a:ahLst/>
                  <a:rect l="l" t="t" r="r" b="b"/>
                  <a:pathLst>
                    <a:path w="66" h="18">
                      <a:moveTo>
                        <a:pt x="66" y="0"/>
                      </a:moveTo>
                      <a:lnTo>
                        <a:pt x="30" y="18"/>
                      </a:lnTo>
                      <a:lnTo>
                        <a:pt x="36" y="0"/>
                      </a:lnTo>
                      <a:lnTo>
                        <a:pt x="0" y="18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pPr>
                    <a:lnSpc>
                      <a:spcPct val="95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" name=""/>
                <p:cNvSpPr/>
                <p:nvPr/>
              </p:nvSpPr>
              <p:spPr>
                <a:xfrm>
                  <a:off x="5026320" y="4508640"/>
                  <a:ext cx="28440" cy="114120"/>
                </a:xfrm>
                <a:custGeom>
                  <a:avLst/>
                  <a:gdLst/>
                  <a:ahLst/>
                  <a:rect l="l" t="t" r="r" b="b"/>
                  <a:pathLst>
                    <a:path w="18" h="72">
                      <a:moveTo>
                        <a:pt x="12" y="72"/>
                      </a:moveTo>
                      <a:lnTo>
                        <a:pt x="0" y="30"/>
                      </a:lnTo>
                      <a:lnTo>
                        <a:pt x="18" y="48"/>
                      </a:lnTo>
                      <a:lnTo>
                        <a:pt x="12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5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0" name=""/>
              <p:cNvGrpSpPr/>
              <p:nvPr/>
            </p:nvGrpSpPr>
            <p:grpSpPr>
              <a:xfrm>
                <a:off x="4356000" y="5316480"/>
                <a:ext cx="451080" cy="271080"/>
                <a:chOff x="4356000" y="5316480"/>
                <a:chExt cx="451080" cy="271080"/>
              </a:xfrm>
            </p:grpSpPr>
            <p:sp>
              <p:nvSpPr>
                <p:cNvPr id="101" name=""/>
                <p:cNvSpPr/>
                <p:nvPr/>
              </p:nvSpPr>
              <p:spPr>
                <a:xfrm>
                  <a:off x="4356000" y="5316480"/>
                  <a:ext cx="451080" cy="271080"/>
                </a:xfrm>
                <a:prstGeom prst="rect">
                  <a:avLst/>
                </a:prstGeom>
                <a:solidFill>
                  <a:srgbClr val="f0dd82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5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4356000" y="5316480"/>
                  <a:ext cx="451080" cy="271080"/>
                </a:xfrm>
                <a:custGeom>
                  <a:avLst/>
                  <a:gdLst/>
                  <a:ahLst/>
                  <a:rect l="l" t="t" r="r" b="b"/>
                  <a:pathLst>
                    <a:path w="162" h="109">
                      <a:moveTo>
                        <a:pt x="114" y="12"/>
                      </a:moveTo>
                      <a:lnTo>
                        <a:pt x="114" y="36"/>
                      </a:lnTo>
                      <a:lnTo>
                        <a:pt x="150" y="36"/>
                      </a:lnTo>
                      <a:lnTo>
                        <a:pt x="150" y="12"/>
                      </a:lnTo>
                      <a:lnTo>
                        <a:pt x="114" y="12"/>
                      </a:lnTo>
                      <a:close/>
                      <a:moveTo>
                        <a:pt x="0" y="0"/>
                      </a:moveTo>
                      <a:lnTo>
                        <a:pt x="0" y="109"/>
                      </a:lnTo>
                      <a:lnTo>
                        <a:pt x="162" y="109"/>
                      </a:lnTo>
                      <a:lnTo>
                        <a:pt x="16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0dd8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5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 flipH="1">
                  <a:off x="4739760" y="5513040"/>
                  <a:ext cx="33480" cy="2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pPr>
                    <a:lnSpc>
                      <a:spcPct val="95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4740120" y="5513040"/>
                  <a:ext cx="33480" cy="442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pPr>
                    <a:lnSpc>
                      <a:spcPct val="95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4673520" y="5346360"/>
                  <a:ext cx="100080" cy="60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pPr>
                    <a:lnSpc>
                      <a:spcPct val="95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4506840" y="5346360"/>
                  <a:ext cx="1800" cy="60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pPr>
                    <a:lnSpc>
                      <a:spcPct val="95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4489560" y="5346360"/>
                  <a:ext cx="2880" cy="60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pPr>
                    <a:lnSpc>
                      <a:spcPct val="95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4471920" y="5346360"/>
                  <a:ext cx="3240" cy="60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pPr>
                    <a:lnSpc>
                      <a:spcPct val="95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4456080" y="5346360"/>
                  <a:ext cx="3240" cy="60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pPr>
                    <a:lnSpc>
                      <a:spcPct val="95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4438800" y="5346360"/>
                  <a:ext cx="2880" cy="60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pPr>
                    <a:lnSpc>
                      <a:spcPct val="95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4422600" y="5346360"/>
                  <a:ext cx="3240" cy="60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pPr>
                    <a:lnSpc>
                      <a:spcPct val="95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4405320" y="5346360"/>
                  <a:ext cx="3240" cy="60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pPr>
                    <a:lnSpc>
                      <a:spcPct val="95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4356000" y="5316480"/>
                  <a:ext cx="451080" cy="271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5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" name=""/>
              <p:cNvGrpSpPr/>
              <p:nvPr/>
            </p:nvGrpSpPr>
            <p:grpSpPr>
              <a:xfrm>
                <a:off x="4678560" y="5155920"/>
                <a:ext cx="279360" cy="142560"/>
                <a:chOff x="4678560" y="5155920"/>
                <a:chExt cx="279360" cy="142560"/>
              </a:xfrm>
            </p:grpSpPr>
            <p:sp>
              <p:nvSpPr>
                <p:cNvPr id="115" name=""/>
                <p:cNvSpPr/>
                <p:nvPr/>
              </p:nvSpPr>
              <p:spPr>
                <a:xfrm>
                  <a:off x="4683240" y="5155920"/>
                  <a:ext cx="2746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95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4678560" y="5155920"/>
                  <a:ext cx="0" cy="142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5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17" name=""/>
          <p:cNvGrpSpPr/>
          <p:nvPr/>
        </p:nvGrpSpPr>
        <p:grpSpPr>
          <a:xfrm>
            <a:off x="539640" y="3789360"/>
            <a:ext cx="1747800" cy="1425600"/>
            <a:chOff x="539640" y="3789360"/>
            <a:chExt cx="1747800" cy="1425600"/>
          </a:xfrm>
        </p:grpSpPr>
        <p:grpSp>
          <p:nvGrpSpPr>
            <p:cNvPr id="118" name=""/>
            <p:cNvGrpSpPr/>
            <p:nvPr/>
          </p:nvGrpSpPr>
          <p:grpSpPr>
            <a:xfrm>
              <a:off x="1320840" y="3789360"/>
              <a:ext cx="802800" cy="1079640"/>
              <a:chOff x="1320840" y="3789360"/>
              <a:chExt cx="802800" cy="1079640"/>
            </a:xfrm>
          </p:grpSpPr>
          <p:grpSp>
            <p:nvGrpSpPr>
              <p:cNvPr id="119" name=""/>
              <p:cNvGrpSpPr/>
              <p:nvPr/>
            </p:nvGrpSpPr>
            <p:grpSpPr>
              <a:xfrm>
                <a:off x="1895400" y="3789360"/>
                <a:ext cx="228240" cy="819360"/>
                <a:chOff x="1895400" y="3789360"/>
                <a:chExt cx="228240" cy="819360"/>
              </a:xfrm>
            </p:grpSpPr>
            <p:sp>
              <p:nvSpPr>
                <p:cNvPr id="120" name=""/>
                <p:cNvSpPr/>
                <p:nvPr/>
              </p:nvSpPr>
              <p:spPr>
                <a:xfrm>
                  <a:off x="1980720" y="3951360"/>
                  <a:ext cx="47520" cy="66600"/>
                </a:xfrm>
                <a:custGeom>
                  <a:avLst/>
                  <a:gdLst/>
                  <a:ahLst/>
                  <a:rect l="l" t="t" r="r" b="b"/>
                  <a:pathLst>
                    <a:path w="30" h="42">
                      <a:moveTo>
                        <a:pt x="6" y="6"/>
                      </a:moveTo>
                      <a:lnTo>
                        <a:pt x="18" y="0"/>
                      </a:lnTo>
                      <a:lnTo>
                        <a:pt x="24" y="6"/>
                      </a:lnTo>
                      <a:lnTo>
                        <a:pt x="30" y="36"/>
                      </a:lnTo>
                      <a:lnTo>
                        <a:pt x="18" y="42"/>
                      </a:lnTo>
                      <a:lnTo>
                        <a:pt x="0" y="36"/>
                      </a:lnTo>
                      <a:lnTo>
                        <a:pt x="6" y="6"/>
                      </a:lnTo>
                      <a:close/>
                    </a:path>
                  </a:pathLst>
                </a:custGeom>
                <a:solidFill>
                  <a:srgbClr val="b5b5b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pPr>
                    <a:lnSpc>
                      <a:spcPct val="95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895400" y="4494240"/>
                  <a:ext cx="228240" cy="57240"/>
                </a:xfrm>
                <a:custGeom>
                  <a:avLst/>
                  <a:gdLst/>
                  <a:ahLst/>
                  <a:rect l="l" t="t" r="r" b="b"/>
                  <a:pathLst>
                    <a:path w="144" h="36">
                      <a:moveTo>
                        <a:pt x="0" y="36"/>
                      </a:moveTo>
                      <a:lnTo>
                        <a:pt x="72" y="0"/>
                      </a:lnTo>
                      <a:lnTo>
                        <a:pt x="144" y="36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pPr>
                    <a:lnSpc>
                      <a:spcPct val="95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895400" y="3922920"/>
                  <a:ext cx="228240" cy="685800"/>
                </a:xfrm>
                <a:custGeom>
                  <a:avLst/>
                  <a:gdLst/>
                  <a:ahLst/>
                  <a:rect l="l" t="t" r="r" b="b"/>
                  <a:pathLst>
                    <a:path w="144" h="432">
                      <a:moveTo>
                        <a:pt x="72" y="0"/>
                      </a:moveTo>
                      <a:lnTo>
                        <a:pt x="72" y="432"/>
                      </a:lnTo>
                      <a:lnTo>
                        <a:pt x="0" y="396"/>
                      </a:lnTo>
                      <a:lnTo>
                        <a:pt x="72" y="0"/>
                      </a:lnTo>
                      <a:lnTo>
                        <a:pt x="144" y="396"/>
                      </a:lnTo>
                      <a:lnTo>
                        <a:pt x="72" y="432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5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1980720" y="4075200"/>
                  <a:ext cx="56880" cy="19080"/>
                </a:xfrm>
                <a:custGeom>
                  <a:avLst/>
                  <a:gdLst/>
                  <a:ahLst/>
                  <a:rect l="l" t="t" r="r" b="b"/>
                  <a:pathLst>
                    <a:path w="36" h="12">
                      <a:moveTo>
                        <a:pt x="0" y="0"/>
                      </a:moveTo>
                      <a:lnTo>
                        <a:pt x="18" y="12"/>
                      </a:lnTo>
                      <a:lnTo>
                        <a:pt x="36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pPr>
                    <a:lnSpc>
                      <a:spcPct val="95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1971360" y="4132440"/>
                  <a:ext cx="75960" cy="19080"/>
                </a:xfrm>
                <a:custGeom>
                  <a:avLst/>
                  <a:gdLst/>
                  <a:ahLst/>
                  <a:rect l="l" t="t" r="r" b="b"/>
                  <a:pathLst>
                    <a:path w="48" h="12">
                      <a:moveTo>
                        <a:pt x="0" y="0"/>
                      </a:moveTo>
                      <a:lnTo>
                        <a:pt x="24" y="12"/>
                      </a:lnTo>
                      <a:lnTo>
                        <a:pt x="48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pPr>
                    <a:lnSpc>
                      <a:spcPct val="95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1961640" y="4179960"/>
                  <a:ext cx="95040" cy="28440"/>
                </a:xfrm>
                <a:custGeom>
                  <a:avLst/>
                  <a:gdLst/>
                  <a:ahLst/>
                  <a:rect l="l" t="t" r="r" b="b"/>
                  <a:pathLst>
                    <a:path w="60" h="18">
                      <a:moveTo>
                        <a:pt x="0" y="0"/>
                      </a:moveTo>
                      <a:lnTo>
                        <a:pt x="30" y="18"/>
                      </a:lnTo>
                      <a:lnTo>
                        <a:pt x="60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pPr>
                    <a:lnSpc>
                      <a:spcPct val="95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1952280" y="4237200"/>
                  <a:ext cx="113760" cy="28440"/>
                </a:xfrm>
                <a:custGeom>
                  <a:avLst/>
                  <a:gdLst/>
                  <a:ahLst/>
                  <a:rect l="l" t="t" r="r" b="b"/>
                  <a:pathLst>
                    <a:path w="72" h="18">
                      <a:moveTo>
                        <a:pt x="0" y="0"/>
                      </a:moveTo>
                      <a:lnTo>
                        <a:pt x="36" y="18"/>
                      </a:lnTo>
                      <a:lnTo>
                        <a:pt x="72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pPr>
                    <a:lnSpc>
                      <a:spcPct val="95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1942560" y="4284720"/>
                  <a:ext cx="133200" cy="38160"/>
                </a:xfrm>
                <a:custGeom>
                  <a:avLst/>
                  <a:gdLst/>
                  <a:ahLst/>
                  <a:rect l="l" t="t" r="r" b="b"/>
                  <a:pathLst>
                    <a:path w="84" h="24">
                      <a:moveTo>
                        <a:pt x="0" y="0"/>
                      </a:moveTo>
                      <a:lnTo>
                        <a:pt x="42" y="24"/>
                      </a:lnTo>
                      <a:lnTo>
                        <a:pt x="84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pPr>
                    <a:lnSpc>
                      <a:spcPct val="95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1933200" y="4341960"/>
                  <a:ext cx="151920" cy="38160"/>
                </a:xfrm>
                <a:custGeom>
                  <a:avLst/>
                  <a:gdLst/>
                  <a:ahLst/>
                  <a:rect l="l" t="t" r="r" b="b"/>
                  <a:pathLst>
                    <a:path w="96" h="24">
                      <a:moveTo>
                        <a:pt x="0" y="0"/>
                      </a:moveTo>
                      <a:lnTo>
                        <a:pt x="48" y="24"/>
                      </a:lnTo>
                      <a:lnTo>
                        <a:pt x="96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pPr>
                    <a:lnSpc>
                      <a:spcPct val="95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1923840" y="4389480"/>
                  <a:ext cx="171000" cy="47520"/>
                </a:xfrm>
                <a:custGeom>
                  <a:avLst/>
                  <a:gdLst/>
                  <a:ahLst/>
                  <a:rect l="l" t="t" r="r" b="b"/>
                  <a:pathLst>
                    <a:path w="108" h="30">
                      <a:moveTo>
                        <a:pt x="0" y="0"/>
                      </a:moveTo>
                      <a:lnTo>
                        <a:pt x="54" y="30"/>
                      </a:lnTo>
                      <a:lnTo>
                        <a:pt x="108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pPr>
                    <a:lnSpc>
                      <a:spcPct val="95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1914120" y="4446720"/>
                  <a:ext cx="190080" cy="47520"/>
                </a:xfrm>
                <a:custGeom>
                  <a:avLst/>
                  <a:gdLst/>
                  <a:ahLst/>
                  <a:rect l="l" t="t" r="r" b="b"/>
                  <a:pathLst>
                    <a:path w="120" h="30">
                      <a:moveTo>
                        <a:pt x="0" y="0"/>
                      </a:moveTo>
                      <a:lnTo>
                        <a:pt x="60" y="30"/>
                      </a:lnTo>
                      <a:lnTo>
                        <a:pt x="120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pPr>
                    <a:lnSpc>
                      <a:spcPct val="95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904760" y="4494240"/>
                  <a:ext cx="209160" cy="57240"/>
                </a:xfrm>
                <a:custGeom>
                  <a:avLst/>
                  <a:gdLst/>
                  <a:ahLst/>
                  <a:rect l="l" t="t" r="r" b="b"/>
                  <a:pathLst>
                    <a:path w="132" h="36">
                      <a:moveTo>
                        <a:pt x="0" y="0"/>
                      </a:moveTo>
                      <a:lnTo>
                        <a:pt x="66" y="36"/>
                      </a:lnTo>
                      <a:lnTo>
                        <a:pt x="132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pPr>
                    <a:lnSpc>
                      <a:spcPct val="95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980720" y="3951360"/>
                  <a:ext cx="47520" cy="66600"/>
                </a:xfrm>
                <a:custGeom>
                  <a:avLst/>
                  <a:gdLst/>
                  <a:ahLst/>
                  <a:rect l="l" t="t" r="r" b="b"/>
                  <a:pathLst>
                    <a:path w="30" h="42">
                      <a:moveTo>
                        <a:pt x="6" y="6"/>
                      </a:moveTo>
                      <a:lnTo>
                        <a:pt x="18" y="0"/>
                      </a:lnTo>
                      <a:lnTo>
                        <a:pt x="24" y="6"/>
                      </a:lnTo>
                      <a:lnTo>
                        <a:pt x="30" y="36"/>
                      </a:lnTo>
                      <a:lnTo>
                        <a:pt x="18" y="42"/>
                      </a:lnTo>
                      <a:lnTo>
                        <a:pt x="0" y="36"/>
                      </a:lnTo>
                      <a:lnTo>
                        <a:pt x="6" y="6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pPr>
                    <a:lnSpc>
                      <a:spcPct val="95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95400" y="3894120"/>
                  <a:ext cx="85320" cy="28800"/>
                </a:xfrm>
                <a:custGeom>
                  <a:avLst/>
                  <a:gdLst/>
                  <a:ahLst/>
                  <a:rect l="l" t="t" r="r" b="b"/>
                  <a:pathLst>
                    <a:path w="54" h="18">
                      <a:moveTo>
                        <a:pt x="54" y="18"/>
                      </a:moveTo>
                      <a:lnTo>
                        <a:pt x="18" y="12"/>
                      </a:lnTo>
                      <a:lnTo>
                        <a:pt x="36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pPr>
                    <a:lnSpc>
                      <a:spcPct val="95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018880" y="3894120"/>
                  <a:ext cx="104400" cy="28800"/>
                </a:xfrm>
                <a:custGeom>
                  <a:avLst/>
                  <a:gdLst/>
                  <a:ahLst/>
                  <a:rect l="l" t="t" r="r" b="b"/>
                  <a:pathLst>
                    <a:path w="66" h="18">
                      <a:moveTo>
                        <a:pt x="66" y="0"/>
                      </a:moveTo>
                      <a:lnTo>
                        <a:pt x="30" y="18"/>
                      </a:lnTo>
                      <a:lnTo>
                        <a:pt x="36" y="0"/>
                      </a:lnTo>
                      <a:lnTo>
                        <a:pt x="0" y="18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pPr>
                    <a:lnSpc>
                      <a:spcPct val="95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1990440" y="3789360"/>
                  <a:ext cx="28080" cy="114480"/>
                </a:xfrm>
                <a:custGeom>
                  <a:avLst/>
                  <a:gdLst/>
                  <a:ahLst/>
                  <a:rect l="l" t="t" r="r" b="b"/>
                  <a:pathLst>
                    <a:path w="18" h="72">
                      <a:moveTo>
                        <a:pt x="12" y="72"/>
                      </a:moveTo>
                      <a:lnTo>
                        <a:pt x="0" y="30"/>
                      </a:lnTo>
                      <a:lnTo>
                        <a:pt x="18" y="48"/>
                      </a:lnTo>
                      <a:lnTo>
                        <a:pt x="12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5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6" name=""/>
              <p:cNvGrpSpPr/>
              <p:nvPr/>
            </p:nvGrpSpPr>
            <p:grpSpPr>
              <a:xfrm>
                <a:off x="1320840" y="4597560"/>
                <a:ext cx="450720" cy="271440"/>
                <a:chOff x="1320840" y="4597560"/>
                <a:chExt cx="450720" cy="271440"/>
              </a:xfrm>
            </p:grpSpPr>
            <p:sp>
              <p:nvSpPr>
                <p:cNvPr id="137" name=""/>
                <p:cNvSpPr/>
                <p:nvPr/>
              </p:nvSpPr>
              <p:spPr>
                <a:xfrm>
                  <a:off x="1320840" y="4597560"/>
                  <a:ext cx="450720" cy="271440"/>
                </a:xfrm>
                <a:prstGeom prst="rect">
                  <a:avLst/>
                </a:prstGeom>
                <a:solidFill>
                  <a:srgbClr val="f0dd82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5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1320840" y="4597560"/>
                  <a:ext cx="450720" cy="271440"/>
                </a:xfrm>
                <a:custGeom>
                  <a:avLst/>
                  <a:gdLst/>
                  <a:ahLst/>
                  <a:rect l="l" t="t" r="r" b="b"/>
                  <a:pathLst>
                    <a:path w="162" h="109">
                      <a:moveTo>
                        <a:pt x="114" y="12"/>
                      </a:moveTo>
                      <a:lnTo>
                        <a:pt x="114" y="36"/>
                      </a:lnTo>
                      <a:lnTo>
                        <a:pt x="150" y="36"/>
                      </a:lnTo>
                      <a:lnTo>
                        <a:pt x="150" y="12"/>
                      </a:lnTo>
                      <a:lnTo>
                        <a:pt x="114" y="12"/>
                      </a:lnTo>
                      <a:close/>
                      <a:moveTo>
                        <a:pt x="0" y="0"/>
                      </a:moveTo>
                      <a:lnTo>
                        <a:pt x="0" y="109"/>
                      </a:lnTo>
                      <a:lnTo>
                        <a:pt x="162" y="109"/>
                      </a:lnTo>
                      <a:lnTo>
                        <a:pt x="162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0dd8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5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 flipH="1">
                  <a:off x="1704600" y="4794480"/>
                  <a:ext cx="33120" cy="3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t">
                  <a:noAutofit/>
                </a:bodyPr>
                <a:p>
                  <a:pPr>
                    <a:lnSpc>
                      <a:spcPct val="95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704600" y="4794480"/>
                  <a:ext cx="33120" cy="446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pPr>
                    <a:lnSpc>
                      <a:spcPct val="95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1638000" y="4627800"/>
                  <a:ext cx="99720" cy="60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pPr>
                    <a:lnSpc>
                      <a:spcPct val="95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1471320" y="4627800"/>
                  <a:ext cx="1440" cy="60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pPr>
                    <a:lnSpc>
                      <a:spcPct val="95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1454040" y="4627800"/>
                  <a:ext cx="2520" cy="60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pPr>
                    <a:lnSpc>
                      <a:spcPct val="95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1436400" y="4627800"/>
                  <a:ext cx="2880" cy="60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pPr>
                    <a:lnSpc>
                      <a:spcPct val="95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1420560" y="4627800"/>
                  <a:ext cx="2880" cy="60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pPr>
                    <a:lnSpc>
                      <a:spcPct val="95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1403280" y="4627800"/>
                  <a:ext cx="2520" cy="60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pPr>
                    <a:lnSpc>
                      <a:spcPct val="95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387080" y="4627800"/>
                  <a:ext cx="2880" cy="60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pPr>
                    <a:lnSpc>
                      <a:spcPct val="95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1369800" y="4627800"/>
                  <a:ext cx="2880" cy="60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pPr>
                    <a:lnSpc>
                      <a:spcPct val="95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1320840" y="4597560"/>
                  <a:ext cx="450720" cy="2714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5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1643040" y="4437000"/>
                <a:ext cx="278640" cy="142920"/>
                <a:chOff x="1643040" y="4437000"/>
                <a:chExt cx="278640" cy="14292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1647360" y="4437000"/>
                  <a:ext cx="2743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>
                    <a:lnSpc>
                      <a:spcPct val="95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1643040" y="4437000"/>
                  <a:ext cx="0" cy="142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5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53" name=""/>
            <p:cNvSpPr/>
            <p:nvPr/>
          </p:nvSpPr>
          <p:spPr>
            <a:xfrm>
              <a:off x="539640" y="4941720"/>
              <a:ext cx="1747800" cy="27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343080" indent="-343080">
                <a:lnSpc>
                  <a:spcPct val="101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2b71"/>
                  </a:solidFill>
                  <a:latin typeface="Verdana"/>
                </a:rPr>
                <a:t>   </a:t>
              </a:r>
              <a:r>
                <a:rPr b="1" i="1" lang="en-US" sz="1000" spc="-1" strike="noStrike">
                  <a:solidFill>
                    <a:srgbClr val="002b71"/>
                  </a:solidFill>
                  <a:latin typeface="Verdana"/>
                </a:rPr>
                <a:t>Basestation 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344880" y="-223200"/>
            <a:ext cx="13269600" cy="8230680"/>
            <a:chOff x="344880" y="-223200"/>
            <a:chExt cx="13269600" cy="8230680"/>
          </a:xfrm>
        </p:grpSpPr>
        <p:sp>
          <p:nvSpPr>
            <p:cNvPr id="155" name=""/>
            <p:cNvSpPr/>
            <p:nvPr/>
          </p:nvSpPr>
          <p:spPr>
            <a:xfrm flipH="1" rot="10267800">
              <a:off x="523440" y="-30960"/>
              <a:ext cx="2684520" cy="2526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4600528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4600528"/>
                </a:path>
              </a:pathLst>
            </a:cu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H="1" rot="20293200">
              <a:off x="6703920" y="1825560"/>
              <a:ext cx="6160680" cy="5225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078" y="24"/>
                  </a:moveTo>
                  <a:arcTo wR="10800" hR="10800" stAng="-5630050" swAng="4830578"/>
                  <a:lnTo>
                    <a:pt x="10800" y="10800"/>
                  </a:lnTo>
                  <a:close/>
                </a:path>
                <a:path fill="none" w="21600" h="21600">
                  <a:moveTo>
                    <a:pt x="10078" y="24"/>
                  </a:moveTo>
                  <a:arcTo wR="10800" hR="10800" stAng="-5630050" swAng="4830578"/>
                </a:path>
              </a:pathLst>
            </a:cu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4572000" y="1773360"/>
            <a:ext cx="355680" cy="228600"/>
            <a:chOff x="4572000" y="1773360"/>
            <a:chExt cx="355680" cy="228600"/>
          </a:xfrm>
        </p:grpSpPr>
        <p:sp>
          <p:nvSpPr>
            <p:cNvPr id="158" name=""/>
            <p:cNvSpPr/>
            <p:nvPr/>
          </p:nvSpPr>
          <p:spPr>
            <a:xfrm>
              <a:off x="4572000" y="1936800"/>
              <a:ext cx="355680" cy="65160"/>
            </a:xfrm>
            <a:custGeom>
              <a:avLst/>
              <a:gdLst>
                <a:gd name="textAreaLeft" fmla="*/ 78120 w 355680"/>
                <a:gd name="textAreaRight" fmla="*/ 277560 w 355680"/>
                <a:gd name="textAreaTop" fmla="*/ 14400 h 65160"/>
                <a:gd name="textAreaBottom" fmla="*/ 50760 h 65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ffff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668840" y="1838520"/>
              <a:ext cx="0" cy="97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668840" y="1838520"/>
              <a:ext cx="129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798440" y="1838520"/>
              <a:ext cx="0" cy="97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862880" y="1773360"/>
              <a:ext cx="0" cy="163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830480" y="1773360"/>
              <a:ext cx="64800" cy="3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flipV="1">
              <a:off x="4830480" y="1773360"/>
              <a:ext cx="64800" cy="3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219640" y="3284640"/>
            <a:ext cx="355680" cy="228600"/>
            <a:chOff x="5219640" y="3284640"/>
            <a:chExt cx="355680" cy="228600"/>
          </a:xfrm>
        </p:grpSpPr>
        <p:sp>
          <p:nvSpPr>
            <p:cNvPr id="166" name=""/>
            <p:cNvSpPr/>
            <p:nvPr/>
          </p:nvSpPr>
          <p:spPr>
            <a:xfrm>
              <a:off x="5219640" y="3448080"/>
              <a:ext cx="355680" cy="65160"/>
            </a:xfrm>
            <a:custGeom>
              <a:avLst/>
              <a:gdLst>
                <a:gd name="textAreaLeft" fmla="*/ 78120 w 355680"/>
                <a:gd name="textAreaRight" fmla="*/ 277560 w 355680"/>
                <a:gd name="textAreaTop" fmla="*/ 14400 h 65160"/>
                <a:gd name="textAreaBottom" fmla="*/ 50760 h 65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ffff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316480" y="3349800"/>
              <a:ext cx="0" cy="97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316480" y="3349800"/>
              <a:ext cx="129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446080" y="3349800"/>
              <a:ext cx="0" cy="97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510520" y="3284640"/>
              <a:ext cx="0" cy="163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478120" y="3284640"/>
              <a:ext cx="64800" cy="3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V="1">
              <a:off x="5478120" y="3284640"/>
              <a:ext cx="64800" cy="3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ctr">
              <a:noAutofit/>
            </a:bodyPr>
            <a:p>
              <a:pPr>
                <a:lnSpc>
                  <a:spcPct val="95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6443640" y="0"/>
            <a:ext cx="792360" cy="7920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7164360" y="189000"/>
            <a:ext cx="1368360" cy="13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MS &amp; LR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5148360" y="764640"/>
            <a:ext cx="1152360" cy="1008360"/>
          </a:xfrm>
          <a:prstGeom prst="line">
            <a:avLst/>
          </a:prstGeom>
          <a:ln w="5724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5148360" y="764640"/>
            <a:ext cx="1152360" cy="1008360"/>
          </a:xfrm>
          <a:prstGeom prst="line">
            <a:avLst/>
          </a:prstGeom>
          <a:ln w="5724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5508720" y="981000"/>
            <a:ext cx="1008000" cy="2232000"/>
          </a:xfrm>
          <a:prstGeom prst="line">
            <a:avLst/>
          </a:prstGeom>
          <a:ln w="5724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12000" y="1989000"/>
            <a:ext cx="720720" cy="55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spcBef>
                <a:spcPts val="2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0960" cy="13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78c7"/>
                </a:solidFill>
                <a:latin typeface="Verdana"/>
              </a:rPr>
              <a:t>Specific objectives of the pilot project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0078c7"/>
                </a:solidFill>
                <a:latin typeface="Verdana"/>
              </a:rPr>
              <a:t>Evaluate synergies between SSN and VMS and in particular:</a:t>
            </a:r>
            <a:endParaRPr b="1" lang="en-US" sz="20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09480" y="2707920"/>
            <a:ext cx="777096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1000"/>
              </a:lnSpc>
              <a:spcBef>
                <a:spcPts val="499"/>
              </a:spcBef>
              <a:buClr>
                <a:srgbClr val="002b71"/>
              </a:buClr>
              <a:buFont typeface="Verdan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000" spc="-1" strike="noStrike">
                <a:solidFill>
                  <a:srgbClr val="002b71"/>
                </a:solidFill>
                <a:latin typeface="Verdana"/>
              </a:rPr>
              <a:t>Provide free of charge more information and with a higher update rate for fishing vessels to the flag/coastal FMC when operating within shore AIS coverage (integrated coverage of all of the EU). 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marL="341280" indent="-341280">
              <a:lnSpc>
                <a:spcPct val="91000"/>
              </a:lnSpc>
              <a:spcBef>
                <a:spcPts val="499"/>
              </a:spcBef>
              <a:buClr>
                <a:srgbClr val="002b71"/>
              </a:buClr>
              <a:buFont typeface="Verdan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000" spc="-1" strike="noStrike">
                <a:solidFill>
                  <a:srgbClr val="002b71"/>
                </a:solidFill>
                <a:latin typeface="Verdana"/>
              </a:rPr>
              <a:t>Provide at a reduced cost, LRIT-based VMS data for fishing vessels to the flag/coastal FMC when fishing vessels operate outside of EU coastal AIS coverage.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marL="341280" indent="-341280">
              <a:lnSpc>
                <a:spcPct val="91000"/>
              </a:lnSpc>
              <a:spcBef>
                <a:spcPts val="499"/>
              </a:spcBef>
              <a:buClr>
                <a:srgbClr val="002b71"/>
              </a:buClr>
              <a:buFont typeface="Verdan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000" spc="-1" strike="noStrike">
                <a:solidFill>
                  <a:srgbClr val="002b71"/>
                </a:solidFill>
                <a:latin typeface="Verdana"/>
              </a:rPr>
              <a:t>Evaluate the cost reductions and the improved performance.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marL="341280" indent="-341280">
              <a:lnSpc>
                <a:spcPct val="91000"/>
              </a:lnSpc>
              <a:spcBef>
                <a:spcPts val="499"/>
              </a:spcBef>
              <a:buClr>
                <a:srgbClr val="002b71"/>
              </a:buClr>
              <a:buFont typeface="Verdan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000" spc="-1" strike="noStrike">
                <a:solidFill>
                  <a:srgbClr val="002b71"/>
                </a:solidFill>
                <a:latin typeface="Verdana"/>
              </a:rPr>
              <a:t>Evaluate and test communications between FMCs through SSN.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096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0078c7"/>
                </a:solidFill>
                <a:latin typeface="Verdana"/>
              </a:rPr>
              <a:t>What Member States need to do </a:t>
            </a: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1000"/>
              </a:lnSpc>
              <a:spcBef>
                <a:spcPts val="499"/>
              </a:spcBef>
              <a:buClr>
                <a:srgbClr val="002b71"/>
              </a:buClr>
              <a:buFont typeface="Verdan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Support EMSA in evaluating the results.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marL="341280" indent="-341280">
              <a:lnSpc>
                <a:spcPct val="101000"/>
              </a:lnSpc>
              <a:spcBef>
                <a:spcPts val="499"/>
              </a:spcBef>
              <a:buClr>
                <a:srgbClr val="002b71"/>
              </a:buClr>
              <a:buFont typeface="Verdan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Participation of a sample number of fishing vessels (e.g. 5 vessels each) operating within and outside AIS coverage. 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marL="341280" indent="-341280">
              <a:lnSpc>
                <a:spcPct val="101000"/>
              </a:lnSpc>
              <a:spcBef>
                <a:spcPts val="499"/>
              </a:spcBef>
              <a:buClr>
                <a:srgbClr val="002b71"/>
              </a:buClr>
              <a:buFont typeface="Verdan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Ensure that the sample fishing vessels are fitted with “blue box”, AIS and LRIT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marL="341280" indent="-341280">
              <a:lnSpc>
                <a:spcPct val="101000"/>
              </a:lnSpc>
              <a:spcBef>
                <a:spcPts val="499"/>
              </a:spcBef>
              <a:buClr>
                <a:srgbClr val="002b71"/>
              </a:buClr>
              <a:buFont typeface="Verdan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Ensure participation and provide the data to SSN for the 5 vessels over the agreed limited period.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096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0078c7"/>
                </a:solidFill>
                <a:latin typeface="Verdana"/>
              </a:rPr>
              <a:t>Technical developments by EMSA </a:t>
            </a: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1000"/>
              </a:lnSpc>
              <a:spcBef>
                <a:spcPts val="499"/>
              </a:spcBef>
              <a:buClr>
                <a:srgbClr val="002b71"/>
              </a:buClr>
              <a:buFont typeface="Verdan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000" spc="-1" strike="noStrike">
                <a:solidFill>
                  <a:srgbClr val="002b71"/>
                </a:solidFill>
                <a:latin typeface="Verdana"/>
              </a:rPr>
              <a:t>Develop the link (interface) between the FMCs.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marL="341280" indent="-341280">
              <a:lnSpc>
                <a:spcPct val="101000"/>
              </a:lnSpc>
              <a:spcBef>
                <a:spcPts val="499"/>
              </a:spcBef>
              <a:buClr>
                <a:srgbClr val="002b71"/>
              </a:buClr>
              <a:buFont typeface="Verdan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000" spc="-1" strike="noStrike">
                <a:solidFill>
                  <a:srgbClr val="002b71"/>
                </a:solidFill>
                <a:latin typeface="Verdana"/>
              </a:rPr>
              <a:t>Enable integrated visualization of the data by SSN. 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marL="341280" indent="-341280">
              <a:lnSpc>
                <a:spcPct val="101000"/>
              </a:lnSpc>
              <a:spcBef>
                <a:spcPts val="499"/>
              </a:spcBef>
              <a:buClr>
                <a:srgbClr val="002b71"/>
              </a:buClr>
              <a:buFont typeface="Verdan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000" spc="-1" strike="noStrike">
                <a:solidFill>
                  <a:srgbClr val="002b71"/>
                </a:solidFill>
                <a:latin typeface="Verdana"/>
              </a:rPr>
              <a:t>Provide appropriate additional data fields to the FMCs and with higher update rate.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marL="341280" indent="-341280">
              <a:lnSpc>
                <a:spcPct val="101000"/>
              </a:lnSpc>
              <a:spcBef>
                <a:spcPts val="499"/>
              </a:spcBef>
              <a:buClr>
                <a:srgbClr val="002b71"/>
              </a:buClr>
              <a:buFont typeface="Verdan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000" spc="-1" strike="noStrike">
                <a:solidFill>
                  <a:srgbClr val="002b71"/>
                </a:solidFill>
                <a:latin typeface="Verdana"/>
              </a:rPr>
              <a:t>As the above (but with less cost) for vessels outside AIS. 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marL="341280" indent="-341280">
              <a:lnSpc>
                <a:spcPct val="101000"/>
              </a:lnSpc>
              <a:spcBef>
                <a:spcPts val="499"/>
              </a:spcBef>
              <a:buClr>
                <a:srgbClr val="002b71"/>
              </a:buClr>
              <a:buFont typeface="Verdan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000" spc="-1" strike="noStrike">
                <a:solidFill>
                  <a:srgbClr val="002b71"/>
                </a:solidFill>
                <a:latin typeface="Verdana"/>
              </a:rPr>
              <a:t>SSN distribution (effectively returning it back to the MSs), through the web interface or via proxy interface. 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marL="341280" indent="-341280">
              <a:lnSpc>
                <a:spcPct val="101000"/>
              </a:lnSpc>
              <a:spcBef>
                <a:spcPts val="499"/>
              </a:spcBef>
              <a:buClr>
                <a:srgbClr val="002b71"/>
              </a:buClr>
              <a:buFont typeface="Verdan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000" spc="-1" strike="noStrike">
                <a:solidFill>
                  <a:srgbClr val="002b71"/>
                </a:solidFill>
                <a:latin typeface="Verdana"/>
              </a:rPr>
              <a:t>SSN will facilitate automated communications as required through SSN. 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marL="341280" indent="-341280">
              <a:lnSpc>
                <a:spcPct val="101000"/>
              </a:lnSpc>
              <a:spcBef>
                <a:spcPts val="499"/>
              </a:spcBef>
              <a:buClr>
                <a:srgbClr val="002b71"/>
              </a:buClr>
              <a:buFont typeface="Verdan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000" spc="-1" strike="noStrike">
                <a:solidFill>
                  <a:srgbClr val="002b71"/>
                </a:solidFill>
                <a:latin typeface="Verdana"/>
              </a:rPr>
              <a:t>No impacts upon other existing SSN functionalities.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096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78c7"/>
                </a:solidFill>
                <a:latin typeface="Verdana"/>
              </a:rPr>
              <a:t>Fishing vessel size repartition in EU25 source: Fisheries and Maritime affairs 2006</a:t>
            </a:r>
            <a:endParaRPr b="1" lang="en-US" sz="2400" spc="-1" strike="noStrike">
              <a:solidFill>
                <a:srgbClr val="0078c7"/>
              </a:solidFill>
              <a:latin typeface="Verdana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1547640" y="1938240"/>
            <a:ext cx="5977080" cy="49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096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0078c7"/>
                </a:solidFill>
                <a:latin typeface="Verdana"/>
              </a:rPr>
              <a:t>The objectives of the pilot project</a:t>
            </a: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1000"/>
              </a:lnSpc>
              <a:spcBef>
                <a:spcPts val="499"/>
              </a:spcBef>
              <a:buClr>
                <a:srgbClr val="002b71"/>
              </a:buClr>
              <a:buFont typeface="Verdan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000" spc="-1" strike="noStrike">
                <a:solidFill>
                  <a:srgbClr val="002b71"/>
                </a:solidFill>
                <a:latin typeface="Verdana"/>
              </a:rPr>
              <a:t>To link the existing systems (SSN and the FMCs of three MS)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marL="341280" indent="-341280">
              <a:lnSpc>
                <a:spcPct val="101000"/>
              </a:lnSpc>
              <a:spcBef>
                <a:spcPts val="499"/>
              </a:spcBef>
              <a:buClr>
                <a:srgbClr val="002b71"/>
              </a:buClr>
              <a:buFont typeface="Verdan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000" spc="-1" strike="noStrike">
                <a:solidFill>
                  <a:srgbClr val="002b71"/>
                </a:solidFill>
                <a:latin typeface="Verdana"/>
              </a:rPr>
              <a:t>To analyse and learn from the experience with a view to future applications. 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096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0078c7"/>
                </a:solidFill>
                <a:latin typeface="Verdana"/>
              </a:rPr>
              <a:t>Specific objectives of this paper</a:t>
            </a: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480" y="2781360"/>
            <a:ext cx="777096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1000"/>
              </a:lnSpc>
              <a:spcBef>
                <a:spcPts val="499"/>
              </a:spcBef>
              <a:buClr>
                <a:srgbClr val="002b71"/>
              </a:buClr>
              <a:buFont typeface="Verdan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Identify the synergies between VMS and SSN 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marL="341280" indent="0">
              <a:lnSpc>
                <a:spcPct val="101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marL="341280" indent="-341280">
              <a:lnSpc>
                <a:spcPct val="101000"/>
              </a:lnSpc>
              <a:spcBef>
                <a:spcPts val="499"/>
              </a:spcBef>
              <a:buClr>
                <a:srgbClr val="002b71"/>
              </a:buClr>
              <a:buFont typeface="Verdan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Outline initial proposals for pilot projects. 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096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755640" y="1052640"/>
            <a:ext cx="7416720" cy="55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03640" y="1196640"/>
            <a:ext cx="353088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0078c7"/>
                </a:solidFill>
                <a:latin typeface="Verdana"/>
              </a:rPr>
              <a:t>Vessel Monitoring Systems – </a:t>
            </a:r>
            <a:br>
              <a:rPr sz="2800"/>
            </a:br>
            <a:r>
              <a:rPr b="1" lang="en-US" sz="2800" spc="-1" strike="noStrike">
                <a:solidFill>
                  <a:srgbClr val="0078c7"/>
                </a:solidFill>
                <a:latin typeface="Verdana"/>
              </a:rPr>
              <a:t>“Blue Box”</a:t>
            </a: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pic>
        <p:nvPicPr>
          <p:cNvPr id="58" name="Εικόνα 12" descr="http://ec.europa.eu/fisheries/cfp/control_enforcement/img/VMS.jpg"/>
          <p:cNvPicPr/>
          <p:nvPr/>
        </p:nvPicPr>
        <p:blipFill>
          <a:blip r:embed="rId2"/>
          <a:stretch/>
        </p:blipFill>
        <p:spPr>
          <a:xfrm>
            <a:off x="250920" y="1052640"/>
            <a:ext cx="4432320" cy="54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096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0078c7"/>
                </a:solidFill>
                <a:latin typeface="Verdana"/>
              </a:rPr>
              <a:t>Background on VMS</a:t>
            </a: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1000"/>
              </a:lnSpc>
              <a:spcBef>
                <a:spcPts val="499"/>
              </a:spcBef>
              <a:buClr>
                <a:srgbClr val="002b71"/>
              </a:buClr>
              <a:buFont typeface="Verdan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000" spc="-1" strike="noStrike">
                <a:solidFill>
                  <a:srgbClr val="002b71"/>
                </a:solidFill>
                <a:latin typeface="Verdana"/>
              </a:rPr>
              <a:t>“</a:t>
            </a:r>
            <a:r>
              <a:rPr b="0" lang="en-GB" sz="2000" spc="-1" strike="noStrike">
                <a:solidFill>
                  <a:srgbClr val="002b71"/>
                </a:solidFill>
                <a:latin typeface="Verdana"/>
              </a:rPr>
              <a:t>blue box” on EU fishing vessels &gt;15 metres 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marL="341280" indent="-341280">
              <a:lnSpc>
                <a:spcPct val="101000"/>
              </a:lnSpc>
              <a:spcBef>
                <a:spcPts val="499"/>
              </a:spcBef>
              <a:buClr>
                <a:srgbClr val="002b71"/>
              </a:buClr>
              <a:buFont typeface="Verdan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000" spc="-1" strike="noStrike">
                <a:solidFill>
                  <a:srgbClr val="002b71"/>
                </a:solidFill>
                <a:latin typeface="Verdana"/>
              </a:rPr>
              <a:t>Coastal MS have Fishing Monitoring Centres (FMC)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marL="341280" indent="-341280">
              <a:lnSpc>
                <a:spcPct val="101000"/>
              </a:lnSpc>
              <a:spcBef>
                <a:spcPts val="499"/>
              </a:spcBef>
              <a:buClr>
                <a:srgbClr val="002b71"/>
              </a:buClr>
              <a:buFont typeface="Verdan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000" spc="-1" strike="noStrike">
                <a:solidFill>
                  <a:srgbClr val="002b71"/>
                </a:solidFill>
                <a:latin typeface="Verdana"/>
              </a:rPr>
              <a:t>VMS messages sent to FMCs via satellite comms.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marL="341280" indent="0">
              <a:lnSpc>
                <a:spcPct val="101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marL="341280" indent="0">
              <a:lnSpc>
                <a:spcPct val="101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61" name=""/>
          <p:cNvSpPr/>
          <p:nvPr/>
        </p:nvSpPr>
        <p:spPr>
          <a:xfrm>
            <a:off x="1974600" y="3209040"/>
            <a:ext cx="51948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Synergies between VMS and SSN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324000" y="1197000"/>
            <a:ext cx="5903640" cy="47322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372360" y="1143000"/>
            <a:ext cx="2008080" cy="30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0078c7"/>
                </a:solidFill>
                <a:latin typeface="Verdana"/>
              </a:rPr>
              <a:t>AIS Base stations and coverage</a:t>
            </a: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096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0078c7"/>
                </a:solidFill>
                <a:latin typeface="Verdana"/>
              </a:rPr>
              <a:t>Synergies between VMS and SSN </a:t>
            </a: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1000"/>
              </a:lnSpc>
              <a:spcBef>
                <a:spcPts val="499"/>
              </a:spcBef>
              <a:buClr>
                <a:srgbClr val="002b71"/>
              </a:buClr>
              <a:buFont typeface="Verdan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000" spc="-1" strike="noStrike">
                <a:solidFill>
                  <a:srgbClr val="002b71"/>
                </a:solidFill>
                <a:latin typeface="Verdana"/>
              </a:rPr>
              <a:t>Access by FMCs to SSN AIS reports (within shore  AIS coverage)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marL="341280" indent="-341280">
              <a:lnSpc>
                <a:spcPct val="101000"/>
              </a:lnSpc>
              <a:spcBef>
                <a:spcPts val="499"/>
              </a:spcBef>
              <a:buClr>
                <a:srgbClr val="002b71"/>
              </a:buClr>
              <a:buFont typeface="Verdan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000" spc="-1" strike="noStrike">
                <a:solidFill>
                  <a:srgbClr val="002b71"/>
                </a:solidFill>
                <a:latin typeface="Verdana"/>
              </a:rPr>
              <a:t>Access by FMCs to LRIT reports (out of AIS coverage)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marL="341280" indent="-341280">
              <a:lnSpc>
                <a:spcPct val="101000"/>
              </a:lnSpc>
              <a:spcBef>
                <a:spcPts val="499"/>
              </a:spcBef>
              <a:buClr>
                <a:srgbClr val="002b71"/>
              </a:buClr>
              <a:buFont typeface="Verdan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000" spc="-1" strike="noStrike">
                <a:solidFill>
                  <a:srgbClr val="002b71"/>
                </a:solidFill>
                <a:latin typeface="Verdana"/>
              </a:rPr>
              <a:t>Polling functionalities through SSN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marL="341280" indent="-341280">
              <a:lnSpc>
                <a:spcPct val="101000"/>
              </a:lnSpc>
              <a:spcBef>
                <a:spcPts val="499"/>
              </a:spcBef>
              <a:buClr>
                <a:srgbClr val="002b71"/>
              </a:buClr>
              <a:buFont typeface="Verdan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000" spc="-1" strike="noStrike">
                <a:solidFill>
                  <a:srgbClr val="002b71"/>
                </a:solidFill>
                <a:latin typeface="Verdana"/>
              </a:rPr>
              <a:t>Communication with FMCs using SSN</a:t>
            </a:r>
            <a:r>
              <a:rPr b="0" lang="en-GB" sz="2000" spc="-1" strike="noStrike">
                <a:solidFill>
                  <a:srgbClr val="002b71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marL="341280" indent="-341280">
              <a:lnSpc>
                <a:spcPct val="101000"/>
              </a:lnSpc>
              <a:spcBef>
                <a:spcPts val="499"/>
              </a:spcBef>
              <a:buClr>
                <a:srgbClr val="002b71"/>
              </a:buClr>
              <a:buFont typeface="Verdan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000" spc="-1" strike="noStrike">
                <a:solidFill>
                  <a:srgbClr val="002b71"/>
                </a:solidFill>
                <a:latin typeface="Verdana"/>
              </a:rPr>
              <a:t>Interface of data from VMS to SSN</a:t>
            </a:r>
            <a:r>
              <a:rPr b="0" lang="en-GB" sz="2000" spc="-1" strike="noStrike">
                <a:solidFill>
                  <a:srgbClr val="002b71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marL="341280" indent="-341280">
              <a:lnSpc>
                <a:spcPct val="101000"/>
              </a:lnSpc>
              <a:spcBef>
                <a:spcPts val="499"/>
              </a:spcBef>
              <a:buClr>
                <a:srgbClr val="002b71"/>
              </a:buClr>
              <a:buFont typeface="Verdan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000" spc="-1" strike="noStrike">
                <a:solidFill>
                  <a:srgbClr val="002b71"/>
                </a:solidFill>
                <a:latin typeface="Verdana"/>
              </a:rPr>
              <a:t>Superimposition of satellite images (CSN) with AIS and VMS data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866920" y="1484280"/>
            <a:ext cx="251316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0078c7"/>
                </a:solidFill>
                <a:latin typeface="Verdana"/>
              </a:rPr>
              <a:t>Integrated in SafeSeaNet</a:t>
            </a: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rcRect l="0" t="15722" r="7872" b="0"/>
          <a:stretch/>
        </p:blipFill>
        <p:spPr>
          <a:xfrm>
            <a:off x="324000" y="1628640"/>
            <a:ext cx="547200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</cp:lastModifiedBy>
  <dcterms:modified xsi:type="dcterms:W3CDTF">2009-06-29T06:40:59Z</dcterms:modified>
  <cp:revision>270</cp:revision>
  <dc:subject/>
  <dc:title>Slide 1</dc:title>
</cp:coreProperties>
</file>